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2.jpeg" ContentType="image/jpeg"/>
  <Override PartName="/ppt/media/image5.pct" ContentType="image/x-pict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9051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3493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thewright3.wikispaces.com/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chschaucer.wetpaint.com/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britishromanticism.wikispaces.com/" TargetMode="External"/><Relationship Id="rId9" Type="http://schemas.openxmlformats.org/officeDocument/2006/relationships/image" Target="../media/image4.png"/><Relationship Id="rId10" Type="http://schemas.openxmlformats.org/officeDocument/2006/relationships/hyperlink" Target="http://flatclassroomproject.wikispaces.com/" TargetMode="External"/><Relationship Id="rId11" Type="http://schemas.openxmlformats.org/officeDocument/2006/relationships/image" Target="../media/image4.png"/><Relationship Id="rId12" Type="http://schemas.openxmlformats.org/officeDocument/2006/relationships/hyperlink" Target="http://educationalwikis.wikispaces.com/Examples+of+educational+wikis" TargetMode="External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hyperlink" Target="http://www.blogger.com/home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edublogs.org/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ghoke.edublogs.org/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www.epals.com/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staff.4j.lane.edu/~siegel/cyo/Site/Adventures.html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hyperlink" Target="http://googlelittrips.com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iigo.com/index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delicious.com/marilynwilliams1" TargetMode="External"/><Relationship Id="rId4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hyperlink" Target="http://mywebspiration.com/members/launch-page" TargetMode="External"/><Relationship Id="rId4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hyperlink" Target="http://www.bubbl.us/" TargetMode="External"/><Relationship Id="rId4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visualthesaurus.com/" TargetMode="External"/><Relationship Id="rId4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worldle.net/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hyperlink" Target="http://docs.google.com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voicethread.com/" TargetMode="External"/><Relationship Id="rId4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twitter.com/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ning.com/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www.skrble.com/" TargetMode="External"/><Relationship Id="rId9" Type="http://schemas.openxmlformats.org/officeDocument/2006/relationships/image" Target="../media/image4.png"/><Relationship Id="rId10" Type="http://schemas.openxmlformats.org/officeDocument/2006/relationships/hyperlink" Target="http://apture.com/" TargetMode="External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ncte.org/standards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hyperlink" Target="http://bubbl.us/" TargetMode="External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hyperlink" Target="http://docs.google.com/" TargetMode="External"/><Relationship Id="rId18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Teaching Writing using Web 2.0 Tools</a:t>
            </a:r>
            <a:r>
              <a:rPr b="0" lang="en-US" sz="7800" spc="-1" strike="noStrike">
                <a:solidFill>
                  <a:srgbClr val="1f5b5a"/>
                </a:solidFill>
                <a:latin typeface="Baskerville"/>
                <a:ea typeface="ヒラギノ明朝 ProN W3"/>
              </a:rPr>
              <a:t>	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87320" y="5803920"/>
            <a:ext cx="11430000" cy="189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Marilyn Williams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RLD,  January 24, 2009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Online Communitie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87320" y="2298600"/>
            <a:ext cx="1143000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Lif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1840" indent="-5486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ST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1840" indent="-5486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du Island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48640" indent="-5486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Exercise flexibility and willingness to be helpful in making necessary compromised to accomplish a common goal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48640" indent="-5486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Second Life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- work in a team to create an amphitheater and host virtual workshops or reading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3520" y="12600"/>
            <a:ext cx="104648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Wikis in Plain English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475" name="TchgWrtg_Web20.ppt_media/TeacherTube - Wikis in Plain English-4.mov" descr=""/>
          <p:cNvPicPr/>
          <p:nvPr/>
        </p:nvPicPr>
        <p:blipFill>
          <a:blip r:embed="rId2"/>
          <a:stretch/>
        </p:blipFill>
        <p:spPr>
          <a:xfrm>
            <a:off x="1420920" y="1333440"/>
            <a:ext cx="10482120" cy="786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31640" y="1676520"/>
            <a:ext cx="1214136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marL="37728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-3772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b4b4b"/>
                </a:solidFill>
                <a:uFillTx/>
                <a:latin typeface="Hoefler Text"/>
              </a:rPr>
              <a:t>4jTIL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-3772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4"/>
              </a:rPr>
              <a:t>The Wright 3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-3772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6"/>
              </a:rPr>
              <a:t>Chaucer Projec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-3772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8"/>
              </a:rPr>
              <a:t>British Romanticism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-3772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0"/>
              </a:rPr>
              <a:t>Flat Classroom Projec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-3772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List of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2"/>
              </a:rPr>
              <a:t>Educational Wikis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-377280">
              <a:lnSpc>
                <a:spcPct val="100000"/>
              </a:lnSpc>
              <a:spcBef>
                <a:spcPts val="1701"/>
              </a:spcBef>
              <a:buSzPct val="12754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Assume shared responsibility for collaborative work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670320" indent="-376920">
              <a:lnSpc>
                <a:spcPct val="100000"/>
              </a:lnSpc>
              <a:spcBef>
                <a:spcPts val="1701"/>
              </a:spcBef>
              <a:buSzPct val="127599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4b4b"/>
                </a:solidFill>
                <a:latin typeface="Hoefler Text"/>
              </a:rPr>
              <a:t>read a historical fiction novel, gather relevant websites, create a nonfiction textbook to accompany the text and post on a wiki</a:t>
            </a:r>
            <a:endParaRPr b="0" lang="en-US" sz="3000" spc="-1" strike="noStrike">
              <a:solidFill>
                <a:srgbClr val="4b4b4b"/>
              </a:solidFill>
              <a:latin typeface="Hoefler Text"/>
            </a:endParaRPr>
          </a:p>
          <a:p>
            <a:pPr marL="377280" indent="-377280">
              <a:lnSpc>
                <a:spcPct val="100000"/>
              </a:lnSpc>
              <a:spcBef>
                <a:spcPts val="1701"/>
              </a:spcBef>
              <a:buSzPct val="12754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Possess a fundamental understanding of ethical/legal issues re: use of information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670320" indent="-376920">
              <a:lnSpc>
                <a:spcPct val="100000"/>
              </a:lnSpc>
              <a:spcBef>
                <a:spcPts val="1701"/>
              </a:spcBef>
              <a:buSzPct val="127599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4b4b"/>
                </a:solidFill>
                <a:latin typeface="Hoefler Text"/>
              </a:rPr>
              <a:t>create an online handbook explaining copyright guidelines</a:t>
            </a:r>
            <a:endParaRPr b="0" lang="en-US" sz="30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193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Wiki - example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3520" y="-1296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626053"/>
                </a:solidFill>
                <a:latin typeface="Baskerville"/>
              </a:rPr>
              <a:t>Blogs in Plain English</a:t>
            </a:r>
            <a:endParaRPr b="0" lang="en-US" sz="55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479" name="TchgWrtg_Web20.ppt_media/Blogs in Plain English-4.mov" descr=""/>
          <p:cNvPicPr/>
          <p:nvPr/>
        </p:nvPicPr>
        <p:blipFill>
          <a:blip r:embed="rId2"/>
          <a:stretch/>
        </p:blipFill>
        <p:spPr>
          <a:xfrm>
            <a:off x="1390680" y="1317600"/>
            <a:ext cx="10503000" cy="78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96800" y="88920"/>
            <a:ext cx="10591560" cy="97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26053"/>
                </a:solidFill>
                <a:latin typeface="Baskerville"/>
              </a:rPr>
              <a:t>Why let our students blog?</a:t>
            </a:r>
            <a:endParaRPr b="0" lang="en-US" sz="64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481" name="TchgWrtg_Web20.ppt_media/TeacherTube - Why Let our Students Blog_-2.mov" descr=""/>
          <p:cNvPicPr/>
          <p:nvPr/>
        </p:nvPicPr>
        <p:blipFill>
          <a:blip r:embed="rId2"/>
          <a:stretch/>
        </p:blipFill>
        <p:spPr>
          <a:xfrm>
            <a:off x="1020600" y="1254240"/>
            <a:ext cx="10962000" cy="82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87320" y="457200"/>
            <a:ext cx="11430000" cy="130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Blogs - for student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87320" y="2857680"/>
            <a:ext cx="11430000" cy="5892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405720" indent="-4057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3"/>
              </a:rPr>
              <a:t>blogger.com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05720" indent="-4057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5"/>
              </a:rPr>
              <a:t>edublogs.or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21080" indent="-40536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xample: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7"/>
              </a:rPr>
              <a:t>Ginny Hok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05720" indent="-4057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9"/>
              </a:rPr>
              <a:t>epals.com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 - online pen pal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0572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05720" indent="-4057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Assume shared responsibility for collaborative work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05720" indent="-4057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rite book reviews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05720" indent="-4057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Use technology as a tool to share informatio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05720" indent="-4057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rite and share “This I Believe” type piec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Website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87320" y="1892160"/>
            <a:ext cx="11430000" cy="659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5144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14440" indent="-5144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Use information accurately and creatively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14040" indent="-5140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esearch an issue, create a Public Service Announcement to persuade their peers about an action they should tak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140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14040" indent="-5140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reate your own ending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5"/>
              </a:rPr>
              <a:t>stori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140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14040" indent="-5140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howcase and publish student work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4137120" y="2292480"/>
            <a:ext cx="8521560" cy="71373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4120" y="596880"/>
            <a:ext cx="821700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u="sng">
                <a:solidFill>
                  <a:srgbClr val="009999"/>
                </a:solidFill>
                <a:uFillTx/>
                <a:latin typeface="Baskerville"/>
                <a:hlinkClick r:id="rId3"/>
              </a:rPr>
              <a:t>Google Lit Trip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8" name=""/>
          <p:cNvSpPr/>
          <p:nvPr/>
        </p:nvSpPr>
        <p:spPr>
          <a:xfrm>
            <a:off x="431640" y="3003480"/>
            <a:ext cx="339120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Hoefler Text"/>
              </a:rPr>
              <a:t>Make Way for Ducklings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Hoefler Text"/>
              </a:rPr>
              <a:t>My Brother Sam is Dead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Hoefler Text"/>
              </a:rPr>
              <a:t>The Kite Runner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Hoefler Text"/>
              </a:rPr>
              <a:t>Into the Wild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marL="571680" indent="-571680"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6819840" y="2565360"/>
            <a:ext cx="4699080" cy="61214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87320" y="457200"/>
            <a:ext cx="114300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Google Earth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86960" y="266652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reate placeholders to identify settings, author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dd descriptions and link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how routes and travel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87320" y="520200"/>
            <a:ext cx="11430000" cy="133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u="sng">
                <a:solidFill>
                  <a:srgbClr val="009999"/>
                </a:solidFill>
                <a:uFillTx/>
                <a:latin typeface="Baskerville"/>
                <a:hlinkClick r:id="rId2"/>
              </a:rPr>
              <a:t>Diigo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87320" y="2755800"/>
            <a:ext cx="114300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Assume shared responsibility for collaborative work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esearch, collect and comment on web sites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Use information accurately and creatively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esearch an issue, create a Public Service Announcement to persuade their peers about an action they should tak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235240" y="444600"/>
            <a:ext cx="8534520" cy="65023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87320" y="7137000"/>
            <a:ext cx="114300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2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5b5a"/>
                </a:solidFill>
                <a:latin typeface="Baskerville"/>
              </a:rPr>
              <a:t>What is Web 2.0?</a:t>
            </a:r>
            <a:endParaRPr b="0" lang="en-US" sz="72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87320" y="8318160"/>
            <a:ext cx="1143000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34c3f"/>
                </a:solidFill>
                <a:latin typeface="Hoefler Text"/>
              </a:rPr>
              <a:t>individuals can publish</a:t>
            </a:r>
            <a:endParaRPr b="0" lang="en-US" sz="60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606680" y="1911240"/>
            <a:ext cx="10502640" cy="7429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87320" y="3805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u="sng">
                <a:solidFill>
                  <a:srgbClr val="009999"/>
                </a:solidFill>
                <a:uFillTx/>
                <a:latin typeface="Baskerville"/>
                <a:hlinkClick r:id="rId3"/>
              </a:rPr>
              <a:t>del.icio.u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087640" y="2133720"/>
            <a:ext cx="9232920" cy="70484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3263760" y="380880"/>
            <a:ext cx="64771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u="sng">
                <a:solidFill>
                  <a:srgbClr val="009999"/>
                </a:solidFill>
                <a:uFillTx/>
                <a:latin typeface="Baskerville"/>
                <a:ea typeface="Baskerville"/>
                <a:hlinkClick r:id="rId3"/>
              </a:rPr>
              <a:t>mywebspiration</a:t>
            </a:r>
            <a:endParaRPr b="0" lang="en-US" sz="78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454040" y="2103480"/>
            <a:ext cx="9690120" cy="73533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87320" y="393480"/>
            <a:ext cx="114300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u="sng">
                <a:solidFill>
                  <a:srgbClr val="009999"/>
                </a:solidFill>
                <a:uFillTx/>
                <a:latin typeface="Baskerville"/>
                <a:hlinkClick r:id="rId3"/>
              </a:rPr>
              <a:t>bubbl.u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2498760" y="1733400"/>
            <a:ext cx="8001000" cy="77724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87320" y="304920"/>
            <a:ext cx="1143000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 u="sng">
                <a:solidFill>
                  <a:srgbClr val="009999"/>
                </a:solidFill>
                <a:uFillTx/>
                <a:latin typeface="Baskerville"/>
                <a:hlinkClick r:id="rId3"/>
              </a:rPr>
              <a:t>Visual Thesaurus</a:t>
            </a:r>
            <a:endParaRPr b="0" lang="en-US" sz="70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87320" y="444600"/>
            <a:ext cx="114300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u="sng">
                <a:solidFill>
                  <a:srgbClr val="009999"/>
                </a:solidFill>
                <a:uFillTx/>
                <a:latin typeface="Baskerville"/>
                <a:hlinkClick r:id="rId2"/>
              </a:rPr>
              <a:t>wordle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193760" y="2197080"/>
            <a:ext cx="1060452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1816200" y="1606680"/>
            <a:ext cx="9359640" cy="60577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87320" y="279360"/>
            <a:ext cx="11430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Baskerville"/>
                <a:hlinkClick r:id="rId3"/>
              </a:rPr>
              <a:t>Google Docs</a:t>
            </a:r>
            <a:endParaRPr b="0" lang="en-US" sz="6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54360" y="7721280"/>
            <a:ext cx="9245520" cy="184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525600" indent="-525600">
              <a:lnSpc>
                <a:spcPct val="100000"/>
              </a:lnSpc>
              <a:buSzPct val="12759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4b4b4b"/>
                </a:solidFill>
                <a:latin typeface="Hoefler Text"/>
              </a:rPr>
              <a:t>assume shared responsibility for collaborative work</a:t>
            </a:r>
            <a:endParaRPr b="0" lang="en-US" sz="3000" spc="-1" strike="noStrike">
              <a:solidFill>
                <a:srgbClr val="4b4b4b"/>
              </a:solidFill>
              <a:latin typeface="Hoefler Text"/>
            </a:endParaRPr>
          </a:p>
          <a:p>
            <a:pPr lvl="1" marL="934560" indent="-525600">
              <a:lnSpc>
                <a:spcPct val="100000"/>
              </a:lnSpc>
              <a:spcBef>
                <a:spcPts val="1599"/>
              </a:spcBef>
              <a:buSzPct val="12759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4b4b"/>
                </a:solidFill>
                <a:latin typeface="Hoefler Text"/>
              </a:rPr>
              <a:t>in pairs, write, revise and publish a mystery story</a:t>
            </a:r>
            <a:endParaRPr b="0" lang="en-US" sz="3000" spc="-1" strike="noStrike">
              <a:solidFill>
                <a:srgbClr val="4b4b4b"/>
              </a:solidFill>
              <a:latin typeface="Hoefler Text"/>
            </a:endParaRPr>
          </a:p>
          <a:p>
            <a:pPr lvl="1" marL="934560" indent="-525600">
              <a:lnSpc>
                <a:spcPct val="100000"/>
              </a:lnSpc>
              <a:spcBef>
                <a:spcPts val="1599"/>
              </a:spcBef>
              <a:buSzPct val="12759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4b4b"/>
                </a:solidFill>
                <a:latin typeface="Hoefler Text"/>
              </a:rPr>
              <a:t>write a poem in two voices</a:t>
            </a:r>
            <a:endParaRPr b="0" lang="en-US" sz="30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2133720" y="1542960"/>
            <a:ext cx="8750160" cy="78868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87320" y="190440"/>
            <a:ext cx="114300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 u="sng">
                <a:solidFill>
                  <a:srgbClr val="009999"/>
                </a:solidFill>
                <a:uFillTx/>
                <a:latin typeface="Baskerville"/>
                <a:hlinkClick r:id="rId3"/>
              </a:rPr>
              <a:t>Voice Thread</a:t>
            </a:r>
            <a:endParaRPr b="0" lang="en-US" sz="70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87320" y="558720"/>
            <a:ext cx="1143000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More...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643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S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witter -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4"/>
              </a:rPr>
              <a:t>http://twitter.com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Jing -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6"/>
              </a:rPr>
              <a:t>http://www.ning.com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KRBL -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8"/>
              </a:rPr>
              <a:t>http://www.skrbl.com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ture -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0"/>
              </a:rPr>
              <a:t>http://apture.com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Hyperwords - </a:t>
            </a:r>
            <a:r>
              <a:rPr b="0" lang="en-US" sz="3600" spc="-1" strike="noStrike" u="sng">
                <a:solidFill>
                  <a:srgbClr val="4b4b4b"/>
                </a:solidFill>
                <a:uFillTx/>
                <a:latin typeface="Hoefler Text"/>
              </a:rPr>
              <a:t>http://www.hyperwords.net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/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My Noteit - </a:t>
            </a:r>
            <a:r>
              <a:rPr b="0" lang="en-US" sz="3600" spc="-1" strike="noStrike" u="sng">
                <a:solidFill>
                  <a:srgbClr val="4b4b4b"/>
                </a:solidFill>
                <a:uFillTx/>
                <a:latin typeface="Hoefler Text"/>
              </a:rPr>
              <a:t>http://www.mynoteit.com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Research</a:t>
            </a:r>
            <a:r>
              <a:rPr b="0" lang="en-US" sz="7800" spc="-1" strike="noStrike">
                <a:solidFill>
                  <a:srgbClr val="626053"/>
                </a:solidFill>
                <a:latin typeface="Baskerville"/>
                <a:ea typeface="ヒラギノ明朝 ProN W3"/>
              </a:rPr>
              <a:t>	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87320" y="25650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...</a:t>
            </a:r>
            <a:r>
              <a:rPr b="0" lang="en-US" sz="3600" spc="-1" strike="noStrike">
                <a:solidFill>
                  <a:srgbClr val="4b4b4b"/>
                </a:solidFill>
                <a:latin typeface="Candara Italic"/>
                <a:ea typeface="Candara Italic"/>
              </a:rPr>
              <a:t>students tend to write more when using a computer, are more willing to take scholarly risks, display more engagement with texts, and gain a clearer understanding of voice and audience.                                                                                                              </a:t>
            </a:r>
            <a:r>
              <a:rPr b="0" lang="en-US" sz="3600" spc="-1" strike="noStrike">
                <a:solidFill>
                  <a:srgbClr val="4b4b4b"/>
                </a:solidFill>
                <a:latin typeface="Candara"/>
                <a:ea typeface="Candara"/>
              </a:rPr>
              <a:t>Moeller, 2002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Trait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5256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dea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Organizatio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ntence Fluency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onven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Voic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ord choic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87320" y="406080"/>
            <a:ext cx="114300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Mode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2" marL="1460520" indent="-571680">
              <a:lnSpc>
                <a:spcPct val="100000"/>
              </a:lnSpc>
              <a:buSzPct val="12754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b4b4b"/>
                </a:solidFill>
                <a:latin typeface="Hoefler Text"/>
              </a:rPr>
              <a:t>Narrative</a:t>
            </a:r>
            <a:endParaRPr b="0" lang="en-US" sz="64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lnSpc>
                <a:spcPct val="100000"/>
              </a:lnSpc>
              <a:spcBef>
                <a:spcPts val="6599"/>
              </a:spcBef>
              <a:buSzPct val="12754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b4b4b"/>
                </a:solidFill>
                <a:latin typeface="Hoefler Text"/>
              </a:rPr>
              <a:t>Persuasive</a:t>
            </a:r>
            <a:endParaRPr b="0" lang="en-US" sz="64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lnSpc>
                <a:spcPct val="100000"/>
              </a:lnSpc>
              <a:spcBef>
                <a:spcPts val="6599"/>
              </a:spcBef>
              <a:buSzPct val="12754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b4b4b"/>
                </a:solidFill>
                <a:latin typeface="Hoefler Text"/>
              </a:rPr>
              <a:t>Expository</a:t>
            </a:r>
            <a:endParaRPr b="0" lang="en-US" sz="6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u="sng">
                <a:solidFill>
                  <a:srgbClr val="009999"/>
                </a:solidFill>
                <a:uFillTx/>
                <a:latin typeface="Baskerville"/>
                <a:hlinkClick r:id="rId2"/>
              </a:rPr>
              <a:t>N.C.T.E.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19040" y="1891800"/>
            <a:ext cx="12141360" cy="751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djust their use of spoken, written, and visual language to communicate effectively with a variety of audiences and for different purpos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mploy a wide range of strategies and use different writing process elements appropriately to communicate with different audiences for a variety of purpos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onduct research, gather, evaluate and synthesize data from a variety of sourc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participate as knowledgeable, reflective, creatie, and critical members in literacy communiti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87320" y="685800"/>
            <a:ext cx="1143000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Tool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87320" y="2374560"/>
            <a:ext cx="1143000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-mai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iscussion board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online communiti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ikis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blog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ebsit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lit trip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iigo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l.icio.u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2"/>
              </a:rPr>
              <a:t>bubbl.u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ebspiratio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visual thesauru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Voice Thread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91240" indent="-2912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googl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7"/>
              </a:rPr>
              <a:t>doc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7" name=""/>
          <p:cNvSpPr/>
          <p:nvPr/>
        </p:nvSpPr>
        <p:spPr>
          <a:xfrm>
            <a:off x="10007640" y="938160"/>
            <a:ext cx="2666880" cy="1703880"/>
          </a:xfrm>
          <a:prstGeom prst="rect">
            <a:avLst/>
          </a:prstGeom>
          <a:solidFill>
            <a:srgbClr val="faf087"/>
          </a:solidFill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Marker Felt"/>
                <a:ea typeface="Marker Felt"/>
              </a:rPr>
              <a:t>google earth</a:t>
            </a:r>
            <a:endParaRPr b="0" lang="en-US" sz="1600" spc="-1" strike="noStrike">
              <a:solidFill>
                <a:srgbClr val="595650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650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Marker Felt"/>
                <a:ea typeface="Marker Felt"/>
              </a:rPr>
              <a:t>tags</a:t>
            </a:r>
            <a:endParaRPr b="0" lang="en-US" sz="1600" spc="-1" strike="noStrike">
              <a:solidFill>
                <a:srgbClr val="595650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650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Marker Felt"/>
                <a:ea typeface="Marker Felt"/>
              </a:rPr>
              <a:t>common craft</a:t>
            </a:r>
            <a:endParaRPr b="0" lang="en-US" sz="1600" spc="-1" strike="noStrike">
              <a:solidFill>
                <a:srgbClr val="595650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650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Marker Felt"/>
                <a:ea typeface="Marker Felt"/>
              </a:rPr>
              <a:t>writeboard.com</a:t>
            </a:r>
            <a:endParaRPr b="0" lang="en-US" sz="1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eMail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4000"/>
          </a:bodyPr>
          <a:p>
            <a:pPr marL="365760" indent="-36576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ommunicate with: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0160" indent="-36540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other student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0160" indent="-36540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uthor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0160" indent="-36540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ommunity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365760" indent="-36576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provide: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0160" indent="-36540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diting/revising help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0160" indent="-36540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new ideas/perspectives (content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0160" indent="-36540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voic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0160" indent="-36540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ntence fluency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0160" indent="-36540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onven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Discussion Board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87320" y="2171520"/>
            <a:ext cx="1143000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onnect with other students, parents, community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new perspectiv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velop, implement and communicate new ideas to other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sk significant questions that clarify various points of view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reate on a wiki, blog, n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The Giver -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how much control should government have in society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