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AF5-B7F3-4EEB-8A6A-5A515640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9A1-5A24-436C-B5C5-F86E5522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5AE-FD55-4CB4-99C2-F1CE44BC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561-B8A7-476D-A88D-5587DEB8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5760-F131-4AA6-941A-D22128E9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1B36-4827-45CB-8D77-1D90EF7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FCE1-2CDB-423C-BF3D-7A5F4BD8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3F15-9CB9-4026-85FC-A1D0EF50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2BC0-E9E7-4E6C-9301-32EBDA17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1FE6-D3CB-4B79-BC92-756E7939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D35-EBE3-4CF3-8BD1-1F2450B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4A0-AC60-4856-B85C-20768EF7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416D-F962-4E57-9D63-9296ED60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17B-5E6E-493C-BC57-AFA080F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F5EB-5744-4034-AA27-28DF2CA1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8FB5-A94E-457E-BD88-0C361B0D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3BF2-23C4-4209-BE42-D74195E8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0EC-7D6E-43F5-B032-ECF3AA69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8CE-A677-4C5B-A136-7E203AE9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93D-1AAB-48FC-8CC3-028DE864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0F1-B8AF-4970-A163-F105194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338-F2E1-481C-8C4A-D57783D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539-5D7B-47BE-BDB1-C2A8025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92F-2039-4924-92FE-5A634A9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8B5356-63CB-43D3-8849-2D9185C30B6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13F78A-20E9-4453-96CD-8AEBC387AF9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gcast.com/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gabcast.com/" TargetMode="Externa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hsvoicesofthesixties.blogspot.com/search/label/Lonnie%2520Dean%2520Moore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hyperlink" Target="http://www.digitales.us/story_details.php?story_id=101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hyperlink" Target="http://4jtilt.wikispaces.com/Digital+Storytelling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ppt_media/rusty.mov" TargetMode="External"/><Relationship Id="rId2" Type="http://schemas.microsoft.com/office/2007/relationships/media" Target="file://localhost/Users/admin/Documents/Documents/TRLD/TRLD%202009/Promise_Practice.ppt_media/rusty.mo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voicethread.com/%23u27749.b36687.i193004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hyperlink" Target="http://staff.4j.lane.edu/~siegel/cyo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rofessionalorganizerorangecounty.com/i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flickr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flickr.com/commons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ordle.net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ighugelabs.com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googlelittrips.com" TargetMode="External"/><Relationship Id="rId11" Type="http://schemas.openxmlformats.org/officeDocument/2006/relationships/image" Target="../media/image14.png"/><Relationship Id="rId12" Type="http://schemas.openxmlformats.org/officeDocument/2006/relationships/slide" Target="slide18.xml"/><Relationship Id="rId13" Type="http://schemas.openxmlformats.org/officeDocument/2006/relationships/image" Target="../media/image14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delicious.co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flickr.com/commons" TargetMode="External"/><Relationship Id="rId9" Type="http://schemas.openxmlformats.org/officeDocument/2006/relationships/hyperlink" Target="http://www.flickr.com/commons" TargetMode="External"/><Relationship Id="rId10" Type="http://schemas.openxmlformats.org/officeDocument/2006/relationships/image" Target="../media/image14.png"/><Relationship Id="rId11" Type="http://schemas.openxmlformats.org/officeDocument/2006/relationships/hyperlink" Target="http://www.books.google.com" TargetMode="External"/><Relationship Id="rId12" Type="http://schemas.openxmlformats.org/officeDocument/2006/relationships/hyperlink" Target="http://www.news.google.com" TargetMode="External"/><Relationship Id="rId13" Type="http://schemas.openxmlformats.org/officeDocument/2006/relationships/hyperlink" Target="http://www.scholar.google.com" TargetMode="External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hyperlink" Target="http://www.4j.lane.edu/" TargetMode="External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" Target="slide30.xml"/><Relationship Id="rId21" Type="http://schemas.openxmlformats.org/officeDocument/2006/relationships/slideLayout" Target="../slideLayouts/slideLayout1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0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activeforpeace.org/en/actual/start.ht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hyperlink" Target="http://www.skrbl.com" TargetMode="External"/><Relationship Id="rId8" Type="http://schemas.openxmlformats.org/officeDocument/2006/relationships/image" Target="../media/image32.png"/><Relationship Id="rId9" Type="http://schemas.openxmlformats.org/officeDocument/2006/relationships/hyperlink" Target="http://www.ruf.rice.edu/~evolve/images/emailIcon.png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Blogs%20in%20Plain%20English-2.mov" TargetMode="External"/><Relationship Id="rId2" Type="http://schemas.microsoft.com/office/2007/relationships/media" Target="file://localhost/Users/admin/Documents/Documents/TRLD/TRLD%202009/Promise_Practice.key/Blogs%20in%20Plain%20English-2.mov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britishembassy.gov.uk/.../Open-doorWEB.jpg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blogger.com/home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edublogs.org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ghoke.edublogs.org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epals.com/" TargetMode="Externa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kathyschrock.net/blog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davidwarlick.com/2cents/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localhost/Users/admin/Documents/Documents/TRLD/TRLD%202009/Promise_Practice.key/TeacherTube%20-%20Wikis%20in%20Plain%20English.mov" TargetMode="External"/><Relationship Id="rId2" Type="http://schemas.microsoft.com/office/2007/relationships/media" Target="file://localhost/Users/admin/Documents/Documents/TRLD/TRLD%202009/Promise_Practice.key/TeacherTube%20-%20Wikis%20in%20Plain%20English.mo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4jtilt.wikispaces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thewright3.wikispaces.com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hschaucer.wetpaint.com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britishromanticism.wikispaces.com/" TargetMode="External"/><Relationship Id="rId9" Type="http://schemas.openxmlformats.org/officeDocument/2006/relationships/image" Target="../media/image14.png"/><Relationship Id="rId10" Type="http://schemas.openxmlformats.org/officeDocument/2006/relationships/hyperlink" Target="http://flatclassroomproject.wikispaces.com/" TargetMode="External"/><Relationship Id="rId11" Type="http://schemas.openxmlformats.org/officeDocument/2006/relationships/image" Target="../media/image14.png"/><Relationship Id="rId12" Type="http://schemas.openxmlformats.org/officeDocument/2006/relationships/hyperlink" Target="http://educationalwikis.wikispaces.com/Examples+of+educational+wikis" TargetMode="Externa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classroom20.co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tappedin.org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www.slideshare.net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ntent creation 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6440" y="1821600"/>
            <a:ext cx="7607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1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Movi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iMovie/MovieMaker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hotos - iPhoto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5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odcast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6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GarageBand/Audac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7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G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3" marL="1250280" indent="-182880">
              <a:lnSpc>
                <a:spcPct val="100000"/>
              </a:lnSpc>
              <a:spcBef>
                <a:spcPts val="420"/>
              </a:spcBef>
              <a:buSzPct val="100058"/>
              <a:buBlip>
                <a:blip r:embed="rId9"/>
              </a:buBlip>
            </a:pPr>
            <a:r>
              <a:rPr b="0" lang="en-US" sz="21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Gabcast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onnie Dean Moo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Rus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Bernajean Por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4jTILT.wikispace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.com/Digital+Storytell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80680" y="5572800"/>
            <a:ext cx="754200" cy="275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/Users/admin/Documents/Documents/TRLD/TRLD 2009/Promise_Practice.ppt_media/rusty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23320" y="401760"/>
            <a:ext cx="6205680" cy="620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idea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voice th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a storybook - authentic audience - model text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werPoint/Keynot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dcas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your own ending story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8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age - images, text, nar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odcas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read aloud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bine pictures, text and nar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rageBand or Aud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learn words in context - ordinary conver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context exam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meticulous about falling off the cli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 and my parents correlate, because without them I wouldn’t be he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17880" y="5862240"/>
            <a:ext cx="1234080" cy="107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  <a:ea typeface="Palatino"/>
              </a:rPr>
              <a:t>Brown, Collns &amp; Duguid, 19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ulary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cept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Kill a Mockingb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senfranchi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yal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riendship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of Winn Dix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6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7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onelines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09000" indent="-2214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occup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407720" y="5778360"/>
            <a:ext cx="729720" cy="259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ff6666"/>
                </a:solidFill>
                <a:latin typeface="Book Antiqua"/>
                <a:ea typeface="Palatino"/>
              </a:rPr>
              <a:t>Activ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continue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Squ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6000" indent="-364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400080"/>
                </a:solidFill>
                <a:latin typeface="Book Antiqua"/>
              </a:rPr>
              <a:t>Word Wa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intermitt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830880" indent="-202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400080"/>
                </a:solidFill>
                <a:latin typeface="Book Antiqua"/>
              </a:rPr>
              <a:t>vo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240" y="2518200"/>
            <a:ext cx="4071600" cy="31874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Vocab - </a:t>
            </a:r>
            <a:r>
              <a:rPr b="1" lang="en-US" sz="2500" spc="-1" strike="noStrike">
                <a:solidFill>
                  <a:srgbClr val="000000"/>
                </a:solidFill>
                <a:latin typeface="Lucida Sans"/>
              </a:rPr>
              <a:t>there’s more!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68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Flash Card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itional - word with definition, used in a sen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d with graphic - photo, draw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125000"/>
              <a:buFont typeface="Zapf Dingbats"/>
              <a:buChar char="✤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ynote/PowerPoi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125000"/>
              <a:buFont typeface="Zapf Dingbats"/>
              <a:buChar char="✤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d is on a slide, next slide ‘flips’ to show definition, graphic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mulativ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rcRect l="0" t="10219" r="0" b="10162"/>
          <a:stretch/>
        </p:blipFill>
        <p:spPr>
          <a:xfrm>
            <a:off x="1385280" y="562680"/>
            <a:ext cx="6374160" cy="47995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35" name="Rectangle 2"/>
          <p:cNvSpPr/>
          <p:nvPr/>
        </p:nvSpPr>
        <p:spPr>
          <a:xfrm>
            <a:off x="5082120" y="5652360"/>
            <a:ext cx="4062600" cy="285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professionalorganizerorangecounty.com/ind</a:t>
            </a:r>
            <a:r>
              <a:rPr b="0" lang="en-US" sz="1300" spc="-1" strike="noStrike">
                <a:solidFill>
                  <a:srgbClr val="ffffff"/>
                </a:solidFill>
                <a:latin typeface="Book Antiqua"/>
                <a:ea typeface="Palatino"/>
              </a:rPr>
              <a:t>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6361200" y="1937880"/>
            <a:ext cx="1484280" cy="1517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ntent crea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7880" y="1571760"/>
            <a:ext cx="294660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2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digital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3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video camera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20"/>
              </a:spcBef>
              <a:buSzPct val="100000"/>
              <a:buBlip>
                <a:blip r:embed="rId4"/>
              </a:buBlip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recording devices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4540680" y="1563840"/>
            <a:ext cx="1186200" cy="1796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4559760" y="4057560"/>
            <a:ext cx="1546560" cy="1083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0" name="Picture 6" descr=""/>
          <p:cNvPicPr/>
          <p:nvPr/>
        </p:nvPicPr>
        <p:blipFill>
          <a:blip r:embed="rId7"/>
          <a:stretch/>
        </p:blipFill>
        <p:spPr>
          <a:xfrm>
            <a:off x="6887160" y="3855240"/>
            <a:ext cx="1172880" cy="2325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8"/>
          <a:srcRect l="0" t="210" r="0" b="0"/>
          <a:stretch/>
        </p:blipFill>
        <p:spPr>
          <a:xfrm>
            <a:off x="2042640" y="4574160"/>
            <a:ext cx="1440720" cy="1326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08000"/>
                </a:solidFill>
                <a:latin typeface="Lucida Sans"/>
              </a:rPr>
              <a:t>Content creation - </a:t>
            </a:r>
            <a:r>
              <a:rPr b="1" lang="en-US" sz="3400" spc="-1" strike="noStrike">
                <a:solidFill>
                  <a:srgbClr val="408000"/>
                </a:solidFill>
                <a:latin typeface="Lucida Sans"/>
              </a:rPr>
              <a:t>Web 2.0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flick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flickr - The Comm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5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word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7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igHugeLab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9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Lit Tri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1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 action="ppaction://hlinksldjump"/>
              </a:rPr>
              <a:t>Blog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3"/>
              </a:buBlip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4" action="ppaction://hlinksldjump"/>
              </a:rPr>
              <a:t>Wik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ord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39520" y="1455480"/>
            <a:ext cx="7455960" cy="481284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13098" t="0" r="13299" b="0"/>
          <a:stretch/>
        </p:blipFill>
        <p:spPr>
          <a:xfrm>
            <a:off x="5505120" y="1812600"/>
            <a:ext cx="3205440" cy="4270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000000"/>
                </a:solidFill>
                <a:latin typeface="Lucida Sans"/>
              </a:rPr>
              <a:t>information fluency</a:t>
            </a:r>
            <a:endParaRPr b="0" lang="en-US" sz="3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455480"/>
            <a:ext cx="4366080" cy="4982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Fl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apply digital tools to gather, evaluate, and u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TE # 7 &amp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  <a:tabLst>
                <a:tab algn="l" pos="247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conduct research by generating ideas and questions, posing problems. They gather, evaluate, and synthesize from...print and non-print tex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0" t="0" r="0" b="3553"/>
          <a:stretch/>
        </p:blipFill>
        <p:spPr>
          <a:xfrm>
            <a:off x="1054800" y="274680"/>
            <a:ext cx="6921360" cy="434844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8080" y="4750560"/>
            <a:ext cx="3312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00" spc="-1" strike="noStrike">
                <a:solidFill>
                  <a:srgbClr val="000000"/>
                </a:solidFill>
                <a:latin typeface="Lucida Sans"/>
              </a:rPr>
              <a:t>Illustration by Francisco Caceres for TIME, January 12, 2009</a:t>
            </a: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6560" y="5188320"/>
            <a:ext cx="8643600" cy="14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 can access more information on the phone in my back pocket that I could have, as a kid, in my hometown libra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18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900" spc="-1" strike="noStrike">
                <a:solidFill>
                  <a:srgbClr val="ffffff"/>
                </a:solidFill>
                <a:latin typeface="Book Antiqua"/>
              </a:rPr>
              <a:t>James Poniewozik, January 12, 2009, TIME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research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earch term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el.icio.u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raphic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organiz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</a:pP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evaluation rubric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Flickr -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The </a:t>
            </a:r>
            <a:r>
              <a:rPr b="0" lang="en-US" sz="25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Comm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0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oogle tools -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1"/>
              </a:rPr>
              <a:t> book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new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3"/>
              </a:rPr>
              <a:t>schol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4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SS feed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19"/>
              </a:spcBef>
              <a:buSzPct val="100000"/>
              <a:buBlip>
                <a:blip r:embed="rId15"/>
              </a:buBlip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YouTube/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16"/>
              </a:rPr>
              <a:t>TeacherTub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32320" y="964440"/>
            <a:ext cx="5848560" cy="64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Palatino"/>
              </a:rPr>
              <a:t>People want to BE the medi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Book Antiqua"/>
                <a:ea typeface="Palatino"/>
              </a:rPr>
              <a:t>James Poniewozi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7"/>
          <a:stretch/>
        </p:blipFill>
        <p:spPr>
          <a:xfrm>
            <a:off x="6500880" y="2410920"/>
            <a:ext cx="732960" cy="794520"/>
          </a:xfrm>
          <a:prstGeom prst="rect">
            <a:avLst/>
          </a:prstGeom>
          <a:ln w="1270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18"/>
          <a:stretch/>
        </p:blipFill>
        <p:spPr>
          <a:xfrm>
            <a:off x="2696760" y="2464560"/>
            <a:ext cx="1776600" cy="526320"/>
          </a:xfrm>
          <a:prstGeom prst="rect">
            <a:avLst/>
          </a:prstGeom>
          <a:ln w="1270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19"/>
          <a:stretch/>
        </p:blipFill>
        <p:spPr>
          <a:xfrm>
            <a:off x="5482800" y="3750480"/>
            <a:ext cx="1964160" cy="740880"/>
          </a:xfrm>
          <a:prstGeom prst="rect">
            <a:avLst/>
          </a:prstGeom>
          <a:ln w="1270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6578640" y="5868000"/>
            <a:ext cx="133920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0" action="ppaction://hlinksldjump"/>
              </a:rPr>
              <a:t>collab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76840" y="696600"/>
            <a:ext cx="4402080" cy="6000480"/>
          </a:xfrm>
          <a:prstGeom prst="rect">
            <a:avLst/>
          </a:prstGeom>
          <a:ln w="1270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68560" y="1384200"/>
            <a:ext cx="4205520" cy="5009040"/>
          </a:xfrm>
          <a:prstGeom prst="rect">
            <a:avLst/>
          </a:prstGeom>
          <a:ln w="1270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5384520" y="281160"/>
            <a:ext cx="2977560" cy="85680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009080" y="18000"/>
            <a:ext cx="10357920" cy="6473520"/>
          </a:xfrm>
          <a:prstGeom prst="rect">
            <a:avLst/>
          </a:prstGeom>
          <a:ln w="1270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727400" y="6359400"/>
            <a:ext cx="691560" cy="294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3" action="ppaction://hlinksldjump"/>
              </a:rPr>
              <a:t>Retur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12437" t="0" r="12563" b="0"/>
          <a:stretch/>
        </p:blipFill>
        <p:spPr>
          <a:xfrm>
            <a:off x="5634720" y="1894320"/>
            <a:ext cx="2966400" cy="39553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llaborative communiti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80" y="2477880"/>
            <a:ext cx="5143320" cy="1883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21480" tIns="0" bIns="0" anchor="ctr">
            <a:noAutofit/>
          </a:bodyPr>
          <a:p>
            <a:pPr marL="8928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ommunication and Collabor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9280">
              <a:lnSpc>
                <a:spcPct val="100000"/>
              </a:lnSpc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s use digital media and environments to communicate and work collaboratively, including at a distance, to support individual learning and contribute to the learning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720" y="6374160"/>
            <a:ext cx="1854360" cy="119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2"/>
              </a:rPr>
              <a:t>www.activeforpeace.org/en/actual/start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u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Bo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6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SKRB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8"/>
          <a:srcRect l="10522" t="0" r="10870" b="0"/>
          <a:stretch/>
        </p:blipFill>
        <p:spPr>
          <a:xfrm>
            <a:off x="5796360" y="1858320"/>
            <a:ext cx="1267560" cy="16894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66" name="Rectangle 3"/>
          <p:cNvSpPr/>
          <p:nvPr/>
        </p:nvSpPr>
        <p:spPr>
          <a:xfrm>
            <a:off x="5635800" y="3763800"/>
            <a:ext cx="2008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ruf.rice.edu/~evolve/images/emailIcon.p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0960" y="160560"/>
            <a:ext cx="76078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/Users/admin/Documents/Documents/TRLD/TRLD 2009/Promise_Practice.key/Blogs in Plain English-2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3840" y="962280"/>
            <a:ext cx="7455960" cy="559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21424" t="0" r="21317" b="0"/>
          <a:stretch/>
        </p:blipFill>
        <p:spPr>
          <a:xfrm>
            <a:off x="4405680" y="1143000"/>
            <a:ext cx="1975320" cy="26337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digital storytelling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" y="1375200"/>
            <a:ext cx="3705480" cy="49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of 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amatic question/emotional cont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undtr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6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c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2602"/>
              </a:spcBef>
              <a:buSzPct val="100000"/>
              <a:buBlip>
                <a:blip r:embed="rId7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8"/>
          <a:srcRect l="174" t="9347" r="0" b="9502"/>
          <a:stretch/>
        </p:blipFill>
        <p:spPr>
          <a:xfrm>
            <a:off x="6732000" y="2384280"/>
            <a:ext cx="2158560" cy="288396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96" name="Rectangle 5"/>
          <p:cNvSpPr/>
          <p:nvPr/>
        </p:nvSpPr>
        <p:spPr>
          <a:xfrm>
            <a:off x="4392360" y="3853080"/>
            <a:ext cx="1648440" cy="91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oxtalbot.dmu.ac.uk/.../LrgeImg/openDoor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44720" y="6514200"/>
            <a:ext cx="199980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Book Antiqua"/>
                <a:ea typeface="Palatino"/>
              </a:rPr>
              <a:t>farm1.static.flickr.com/182/396213261_87ca3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743160" y="5496120"/>
            <a:ext cx="2133720" cy="169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9"/>
              </a:rPr>
              <a:t>www.opendoorvcf.org/.../2684/Open_Door_Door_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0"/>
          <a:srcRect l="171" t="0" r="0" b="0"/>
          <a:stretch/>
        </p:blipFill>
        <p:spPr>
          <a:xfrm>
            <a:off x="4808520" y="4142160"/>
            <a:ext cx="1666080" cy="222660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stude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logg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edublogs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24960" indent="-28332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Ginny Hok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epals.c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online pen 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gs - for teache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ll Richardson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eblogg-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athy Schrock’s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Kaffeklats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vid Warlick -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2 Cents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6600" y="223200"/>
            <a:ext cx="760788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s -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 plain englis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/Users/admin/Documents/Documents/TRLD/TRLD 2009/Promise_Practice.key/TeacherTube - Wikis in Plain English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38240" y="1107360"/>
            <a:ext cx="7071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Wiki - 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4jTI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he Wright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Chaucer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7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British Roman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9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0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of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2"/>
              </a:rPr>
              <a:t>Educational Wik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30760" y="6032160"/>
            <a:ext cx="1008720" cy="18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 u="sng">
                <a:solidFill>
                  <a:srgbClr val="410082"/>
                </a:solidFill>
                <a:uFillTx/>
                <a:latin typeface="Book Antiqua"/>
                <a:ea typeface="Palatino"/>
                <a:hlinkClick r:id="rId13" action="ppaction://hlinksldjump"/>
              </a:rPr>
              <a:t>Return to out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0320" y="178560"/>
            <a:ext cx="79826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Collaborative community: Teacher Resourc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7880" y="2044800"/>
            <a:ext cx="7607880" cy="40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classroom 2.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tapped 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slidesh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Optima"/>
                <a:ea typeface="Optima"/>
              </a:rPr>
              <a:t>last wo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ill this technology provide that is uniq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can I do better, instructionally, with this than what I could do without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writing, reading and thin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 familiar sto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hing that is personally meaningfu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just saying the word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37440" indent="-22860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re than merely describing the experie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e 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One: What do I have to sa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wo: Artifact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Three: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" action="ppaction://hlinkshowjump?jump=nextslide"/>
              </a:rPr>
              <a:t>Storyboar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our: Story Circ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Five: Revising the Scri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7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5840" y="927720"/>
            <a:ext cx="7482600" cy="5625360"/>
          </a:xfrm>
          <a:prstGeom prst="rect">
            <a:avLst/>
          </a:prstGeom>
          <a:ln w="12700">
            <a:noFill/>
          </a:ln>
        </p:spPr>
      </p:pic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rcRect l="20858" t="0" r="20917" b="0"/>
          <a:stretch/>
        </p:blipFill>
        <p:spPr>
          <a:xfrm>
            <a:off x="4956120" y="1145160"/>
            <a:ext cx="3482280" cy="464292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78560"/>
            <a:ext cx="7607880" cy="6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oryboard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rcRect l="20416" t="0" r="20375" b="0"/>
          <a:stretch/>
        </p:blipFill>
        <p:spPr>
          <a:xfrm>
            <a:off x="705600" y="1139760"/>
            <a:ext cx="3517920" cy="4690080"/>
          </a:xfrm>
          <a:prstGeom prst="rect">
            <a:avLst/>
          </a:prstGeom>
          <a:ln w="177800">
            <a:solidFill>
              <a:srgbClr val="e6e7e5"/>
            </a:solidFill>
            <a:miter/>
          </a:ln>
          <a:effectLst>
            <a:outerShdw algn="ctr" blurRad="76320" dir="5400000" dist="190440" rotWithShape="0">
              <a:schemeClr val="bg2">
                <a:alpha val="29999"/>
              </a:schemeClr>
            </a:outerShdw>
          </a:effectLst>
        </p:spPr>
      </p:pic>
      <p:sp>
        <p:nvSpPr>
          <p:cNvPr id="109" name="Rectangle 4"/>
          <p:cNvSpPr/>
          <p:nvPr/>
        </p:nvSpPr>
        <p:spPr>
          <a:xfrm>
            <a:off x="6674760" y="6144120"/>
            <a:ext cx="1601280" cy="198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ffffff"/>
                </a:solidFill>
                <a:uFillTx/>
                <a:latin typeface="Book Antiqua"/>
                <a:ea typeface="Palatino"/>
              </a:rPr>
              <a:t>Pre produ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- </a:t>
            </a:r>
            <a:r>
              <a:rPr b="1" lang="en-US" sz="3400" spc="-1" strike="noStrike">
                <a:solidFill>
                  <a:srgbClr val="000000"/>
                </a:solidFill>
                <a:latin typeface="Lucida Sans"/>
              </a:rPr>
              <a:t>production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 digital pictures into movie software (iMovie or Movie Mak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rans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special ef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 titles, 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NTENT...CONTENT...CONT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helpful hint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7880" y="1839600"/>
            <a:ext cx="76078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542880" indent="-4071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, save,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save your work!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2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 steps to follow - outline, check 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fts and storyboards BEFORE compu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ate in small chun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 on writing/rea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a scoring rubr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2880" indent="-407160">
              <a:lnSpc>
                <a:spcPct val="100000"/>
              </a:lnSpc>
              <a:spcBef>
                <a:spcPts val="1477"/>
              </a:spcBef>
              <a:buSzPct val="100000"/>
              <a:buBlip>
                <a:blip r:embed="rId7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eck copyr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0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22:32Z</dcterms:created>
  <dc:creator>Eugene 4J School District</dc:creator>
  <dc:description/>
  <dc:language>en-US</dc:language>
  <cp:lastModifiedBy>Eugene 4J School District</cp:lastModifiedBy>
  <dcterms:modified xsi:type="dcterms:W3CDTF">2009-01-23T06:23:06Z</dcterms:modified>
  <cp:revision>1</cp:revision>
  <dc:subject/>
  <dc:title>content cre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