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743-690C-4BD7-A3EB-EB94684E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395-F4CA-4955-B5D7-9006D725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7F8-4A6D-41F1-A81C-58DA0298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516-14C6-44AA-A216-1224C768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BB0A-2FF8-4A55-B9E8-EA34AA0E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E438-B435-40E9-B970-F2C7E5D6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E718-A360-4DEE-8C5A-F35DC661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A057-1735-443F-BD02-0B74D4D0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538D-AC57-467C-925A-643457C3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59B5-115E-4E9D-8F26-E3E4D52D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0E36-024C-4854-9953-08114D51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FA2-FCE8-4568-B8F2-0E967BD2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3911-0B07-4707-8702-E7155F1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D2DE-B5E4-4592-A2EA-E5DE5D29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8EF6-2BCF-48E3-86DD-63B84209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5375-1CF2-4A50-8D58-C1D329DE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A7A5-EAB5-419B-816D-1A7CB0EF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130-DC86-4DE7-BB5D-D6073061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D0B-5591-4FF8-9B8B-34E8F02D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E47-73C4-441C-B9DE-F280F613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F26-D595-4426-9A49-D65D99AE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F49-B06C-44B4-BF33-A32AF65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AC0-CAE3-4934-8673-6CD188A9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2AF-C351-45CF-8913-3714A9DC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80900B-58E5-48EF-B499-BAEE1E9A0A1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075293-556C-4DBF-9C2A-781ED69E7D9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gcast.com/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www.gabcast.com/" TargetMode="Externa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lhsvoicesofthesixties.blogspot.com/search/label/Lonnie%2520Dean%2520Moore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hyperlink" Target="http://www.digitales.us/story_details.php?story_id=101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2.png"/><Relationship Id="rId8" Type="http://schemas.openxmlformats.org/officeDocument/2006/relationships/hyperlink" Target="http://4jtilt.wikispaces.com/Digital+Storytelling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ppt_media/rusty.mov" TargetMode="External"/><Relationship Id="rId2" Type="http://schemas.microsoft.com/office/2007/relationships/media" Target="file://localhost/Users/admin/Documents/Documents/TRLD/TRLD%202009/Promise_Practice.ppt_media/rusty.mov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voicethread.com/%23u27749.b36687.i193004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hyperlink" Target="http://staff.4j.lane.edu/~siegel/cyo" TargetMode="External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professionalorganizerorangecounty.com/i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flickr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flickr.com/commons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ordle.net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ighugelabs.com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googlelittrips.com" TargetMode="External"/><Relationship Id="rId11" Type="http://schemas.openxmlformats.org/officeDocument/2006/relationships/image" Target="../media/image14.png"/><Relationship Id="rId12" Type="http://schemas.openxmlformats.org/officeDocument/2006/relationships/slide" Target="slide18.xml"/><Relationship Id="rId13" Type="http://schemas.openxmlformats.org/officeDocument/2006/relationships/image" Target="../media/image14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delicious.com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rubistar.4teachers.org/index.php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flickr.com/commons" TargetMode="External"/><Relationship Id="rId9" Type="http://schemas.openxmlformats.org/officeDocument/2006/relationships/hyperlink" Target="http://www.flickr.com/commons" TargetMode="External"/><Relationship Id="rId10" Type="http://schemas.openxmlformats.org/officeDocument/2006/relationships/image" Target="../media/image14.png"/><Relationship Id="rId11" Type="http://schemas.openxmlformats.org/officeDocument/2006/relationships/hyperlink" Target="http://www.books.google.com" TargetMode="External"/><Relationship Id="rId12" Type="http://schemas.openxmlformats.org/officeDocument/2006/relationships/hyperlink" Target="http://www.news.google.com" TargetMode="External"/><Relationship Id="rId13" Type="http://schemas.openxmlformats.org/officeDocument/2006/relationships/hyperlink" Target="http://www.scholar.google.com" TargetMode="External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hyperlink" Target="http://www.4j.lane.edu/" TargetMode="External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" Target="slide30.xml"/><Relationship Id="rId21" Type="http://schemas.openxmlformats.org/officeDocument/2006/relationships/slideLayout" Target="../slideLayouts/slideLayout1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30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activeforpeace.org/en/actual/start.ht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hyperlink" Target="http://www.skrbl.com" TargetMode="External"/><Relationship Id="rId8" Type="http://schemas.openxmlformats.org/officeDocument/2006/relationships/image" Target="../media/image32.png"/><Relationship Id="rId9" Type="http://schemas.openxmlformats.org/officeDocument/2006/relationships/hyperlink" Target="http://www.ruf.rice.edu/~evolve/images/emailIcon.png" TargetMode="Externa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Blogs%20in%20Plain%20English-2.mov" TargetMode="External"/><Relationship Id="rId2" Type="http://schemas.microsoft.com/office/2007/relationships/media" Target="file://localhost/Users/admin/Documents/Documents/TRLD/TRLD%202009/Promise_Practice.key/Blogs%20in%20Plain%20English-2.mov" TargetMode="Externa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hyperlink" Target="http://www.britishembassy.gov.uk/.../Open-doorWEB.jpg" TargetMode="Externa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blogger.com/home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edublogs.org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ghoke.edublogs.org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epals.com/" TargetMode="Externa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eblogg-ed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kathyschrock.net/blog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davidwarlick.com/2cents/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TeacherTube%20-%20Wikis%20in%20Plain%20English.mov" TargetMode="External"/><Relationship Id="rId2" Type="http://schemas.microsoft.com/office/2007/relationships/media" Target="file://localhost/Users/admin/Documents/Documents/TRLD/TRLD%202009/Promise_Practice.key/TeacherTube%20-%20Wikis%20in%20Plain%20English.mov" TargetMode="Externa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4jtilt.wikispaces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thewright3.wikispaces.com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chschaucer.wetpaint.com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ritishromanticism.wikispaces.com/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flatclassroomproject.wikispaces.com/" TargetMode="External"/><Relationship Id="rId11" Type="http://schemas.openxmlformats.org/officeDocument/2006/relationships/image" Target="../media/image14.png"/><Relationship Id="rId12" Type="http://schemas.openxmlformats.org/officeDocument/2006/relationships/hyperlink" Target="http://educationalwikis.wikispaces.com/Examples+of+educational+wikis" TargetMode="Externa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classroom20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tappedin.org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ww.slideshare.net" TargetMode="Externa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ntent creation 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46440" y="1821600"/>
            <a:ext cx="7607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1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Movi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iMovie/MovieMaker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hotos - iPhoto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5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dcast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6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GarageBand/Audacity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7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G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9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Gab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Lonnie Dean Moo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Rus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Bernajean Por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4jTILT.wikispace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.com/Digital+Storytellin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880680" y="5572800"/>
            <a:ext cx="754200" cy="275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/Users/admin/Documents/Documents/TRLD/TRLD 2009/Promise_Practice.ppt_media/rusty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23320" y="401760"/>
            <a:ext cx="6205680" cy="620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Other idea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voice thre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a storybook - authentic audience - model text stru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dcas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your own ending story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8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llage - images, text, narr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odcas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 read aloud’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bine pictures, text and narr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GarageBand or Aud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ually learn words in context - ordinary convers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t of context examp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was meticulous about falling off the clif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 and my parents correlate, because without them I wouldn’t be he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617880" y="5862240"/>
            <a:ext cx="1234080" cy="107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ffffff"/>
                </a:solidFill>
                <a:latin typeface="Book Antiqua"/>
                <a:ea typeface="Palatino"/>
              </a:rPr>
              <a:t>Brown, Collns &amp; Duguid, 198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cept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Kill a Mockingb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isenfranchis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yal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riendship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cause of Winn Dix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6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nelines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8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eoccupi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407720" y="5778360"/>
            <a:ext cx="729720" cy="259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continued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Squ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400080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intermitt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cumulativ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voi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750240" y="2518200"/>
            <a:ext cx="4071600" cy="31874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there’s more!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68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Flash Card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itional - word with definition, used in a sent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ith graphic - photo, draw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ynote/PowerPoi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ord is on a slide, next slide ‘flips’ to show definition, graphic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mulativ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rcRect l="0" t="10219" r="0" b="10162"/>
          <a:stretch/>
        </p:blipFill>
        <p:spPr>
          <a:xfrm>
            <a:off x="1385280" y="562680"/>
            <a:ext cx="6374160" cy="47995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35" name="Rectangle 2"/>
          <p:cNvSpPr/>
          <p:nvPr/>
        </p:nvSpPr>
        <p:spPr>
          <a:xfrm>
            <a:off x="5082120" y="5652360"/>
            <a:ext cx="4062600" cy="2854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professionalorganizerorangecounty.com/ind</a:t>
            </a:r>
            <a:r>
              <a:rPr b="0" lang="en-US" sz="1300" spc="-1" strike="noStrike">
                <a:solidFill>
                  <a:srgbClr val="ffffff"/>
                </a:solidFill>
                <a:latin typeface="Book Antiqua"/>
                <a:ea typeface="Palatino"/>
              </a:rPr>
              <a:t>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6361200" y="1937880"/>
            <a:ext cx="1484280" cy="1517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tent crea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7880" y="1571760"/>
            <a:ext cx="294660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digital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video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recording devic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5"/>
          <a:stretch/>
        </p:blipFill>
        <p:spPr>
          <a:xfrm>
            <a:off x="4540680" y="1563840"/>
            <a:ext cx="1186200" cy="1796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4559760" y="4057560"/>
            <a:ext cx="1546560" cy="1083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0" name="Picture 6" descr=""/>
          <p:cNvPicPr/>
          <p:nvPr/>
        </p:nvPicPr>
        <p:blipFill>
          <a:blip r:embed="rId7"/>
          <a:stretch/>
        </p:blipFill>
        <p:spPr>
          <a:xfrm>
            <a:off x="6887160" y="3855240"/>
            <a:ext cx="1172880" cy="2325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1" name="Picture 7" descr=""/>
          <p:cNvPicPr/>
          <p:nvPr/>
        </p:nvPicPr>
        <p:blipFill>
          <a:blip r:embed="rId8"/>
          <a:srcRect l="0" t="210" r="0" b="0"/>
          <a:stretch/>
        </p:blipFill>
        <p:spPr>
          <a:xfrm>
            <a:off x="2042640" y="4574160"/>
            <a:ext cx="1440720" cy="1326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08000"/>
                </a:solidFill>
                <a:latin typeface="Lucida Sans"/>
              </a:rPr>
              <a:t>Content creation - </a:t>
            </a:r>
            <a:r>
              <a:rPr b="1" lang="en-US" sz="3400" spc="-1" strike="noStrike">
                <a:solidFill>
                  <a:srgbClr val="408000"/>
                </a:solidFill>
                <a:latin typeface="Lucida Sans"/>
              </a:rPr>
              <a:t>Web 2.0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flick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flickr - The Commo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5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wordl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7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igHugeLab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9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Lit Trip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 action="ppaction://hlinksldjump"/>
              </a:rPr>
              <a:t>Blog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4" action="ppaction://hlinksldjump"/>
              </a:rPr>
              <a:t>Wiki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ord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839520" y="1455480"/>
            <a:ext cx="7455960" cy="48128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rcRect l="13098" t="0" r="13299" b="0"/>
          <a:stretch/>
        </p:blipFill>
        <p:spPr>
          <a:xfrm>
            <a:off x="5505120" y="1812600"/>
            <a:ext cx="3205440" cy="4270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900" spc="-1" strike="noStrike">
                <a:solidFill>
                  <a:srgbClr val="000000"/>
                </a:solidFill>
                <a:latin typeface="Lucida Sans"/>
              </a:rPr>
              <a:t>information fluency</a:t>
            </a:r>
            <a:endParaRPr b="0" lang="en-US" sz="39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42960" y="1455480"/>
            <a:ext cx="4366080" cy="4982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Researc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apply digital tools to gather, evaluate, and u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TE # 7 &amp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conduct research by generating ideas and questions, posing problems. They gather, evaluate, and synthesize from...print and non-print tex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rcRect l="0" t="0" r="0" b="3553"/>
          <a:stretch/>
        </p:blipFill>
        <p:spPr>
          <a:xfrm>
            <a:off x="1054800" y="274680"/>
            <a:ext cx="6921360" cy="434844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8080" y="4750560"/>
            <a:ext cx="3312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800" spc="-1" strike="noStrike">
                <a:solidFill>
                  <a:srgbClr val="000000"/>
                </a:solidFill>
                <a:latin typeface="Lucida Sans"/>
              </a:rPr>
              <a:t>Illustration by Francisco Caceres for TIME, January 12, 2009</a:t>
            </a: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6560" y="5188320"/>
            <a:ext cx="8643600" cy="14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 can access more information on the phone in my back pocket that I could have, as a kid, in my hometown librar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18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900" spc="-1" strike="noStrike">
                <a:solidFill>
                  <a:srgbClr val="ffffff"/>
                </a:solidFill>
                <a:latin typeface="Book Antiqua"/>
              </a:rPr>
              <a:t>James Poniewozik, January 12, 2009, TIME </a:t>
            </a: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research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earch term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del.icio.u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graphic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organize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evaluation rubric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Flickr -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The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Common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0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Google tools -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1"/>
              </a:rPr>
              <a:t> book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new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3"/>
              </a:rPr>
              <a:t>schola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4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SS feed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5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YouTube/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6"/>
              </a:rPr>
              <a:t>TeacherTub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32320" y="964440"/>
            <a:ext cx="5848560" cy="64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People want to BE the medi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James Poniewozik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7"/>
          <a:stretch/>
        </p:blipFill>
        <p:spPr>
          <a:xfrm>
            <a:off x="6500880" y="2410920"/>
            <a:ext cx="732960" cy="794520"/>
          </a:xfrm>
          <a:prstGeom prst="rect">
            <a:avLst/>
          </a:prstGeom>
          <a:ln w="1270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18"/>
          <a:stretch/>
        </p:blipFill>
        <p:spPr>
          <a:xfrm>
            <a:off x="2696760" y="2464560"/>
            <a:ext cx="1776600" cy="526320"/>
          </a:xfrm>
          <a:prstGeom prst="rect">
            <a:avLst/>
          </a:prstGeom>
          <a:ln w="1270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19"/>
          <a:stretch/>
        </p:blipFill>
        <p:spPr>
          <a:xfrm>
            <a:off x="5482800" y="3750480"/>
            <a:ext cx="1964160" cy="740880"/>
          </a:xfrm>
          <a:prstGeom prst="rect">
            <a:avLst/>
          </a:prstGeom>
          <a:ln w="1270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6578640" y="5868000"/>
            <a:ext cx="133920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0" action="ppaction://hlinksldjump"/>
              </a:rPr>
              <a:t>collabo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76840" y="696600"/>
            <a:ext cx="4402080" cy="6000480"/>
          </a:xfrm>
          <a:prstGeom prst="rect">
            <a:avLst/>
          </a:prstGeom>
          <a:ln w="1270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68560" y="1384200"/>
            <a:ext cx="4205520" cy="5009040"/>
          </a:xfrm>
          <a:prstGeom prst="rect">
            <a:avLst/>
          </a:prstGeom>
          <a:ln w="1270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5384520" y="281160"/>
            <a:ext cx="2977560" cy="85680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009080" y="18000"/>
            <a:ext cx="10357920" cy="6473520"/>
          </a:xfrm>
          <a:prstGeom prst="rect">
            <a:avLst/>
          </a:prstGeom>
          <a:ln w="1270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7727400" y="6359400"/>
            <a:ext cx="69156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3" action="ppaction://hlinksldjump"/>
              </a:rPr>
              <a:t>Retur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rcRect l="12437" t="0" r="12563" b="0"/>
          <a:stretch/>
        </p:blipFill>
        <p:spPr>
          <a:xfrm>
            <a:off x="5634720" y="1894320"/>
            <a:ext cx="2966400" cy="3955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llaborative communiti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12480" y="2477880"/>
            <a:ext cx="5143320" cy="1883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Communication and Collabor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use digital media and environments to communicate and work collaboratively, including at a distance, to support individual learning and contribute to the learning of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720" y="6374160"/>
            <a:ext cx="1854360" cy="1195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activeforpeace.org/en/actual/start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lo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u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ion Bo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SKRB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8"/>
          <a:srcRect l="10522" t="0" r="10870" b="0"/>
          <a:stretch/>
        </p:blipFill>
        <p:spPr>
          <a:xfrm>
            <a:off x="5796360" y="1858320"/>
            <a:ext cx="1267560" cy="16894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6" name="Rectangle 3"/>
          <p:cNvSpPr/>
          <p:nvPr/>
        </p:nvSpPr>
        <p:spPr>
          <a:xfrm>
            <a:off x="5635800" y="3763800"/>
            <a:ext cx="2008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ruf.rice.edu/~evolve/images/emailIcon.p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0960" y="160560"/>
            <a:ext cx="760788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/Users/admin/Documents/Documents/TRLD/TRLD 2009/Promise_Practice.key/Blogs in Plain English-2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3840" y="962280"/>
            <a:ext cx="7455960" cy="559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rcRect l="21424" t="0" r="21317" b="0"/>
          <a:stretch/>
        </p:blipFill>
        <p:spPr>
          <a:xfrm>
            <a:off x="4405680" y="1143000"/>
            <a:ext cx="1975320" cy="2633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400" y="1375200"/>
            <a:ext cx="3705480" cy="49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int of vie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ramatic question/emotional cont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undtr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6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c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7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conom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8"/>
          <a:srcRect l="174" t="9347" r="0" b="9502"/>
          <a:stretch/>
        </p:blipFill>
        <p:spPr>
          <a:xfrm>
            <a:off x="6732000" y="2384280"/>
            <a:ext cx="2158560" cy="2883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6" name="Rectangle 5"/>
          <p:cNvSpPr/>
          <p:nvPr/>
        </p:nvSpPr>
        <p:spPr>
          <a:xfrm>
            <a:off x="4392360" y="3853080"/>
            <a:ext cx="1648440" cy="918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oxtalbot.dmu.ac.uk/.../LrgeImg/openDoor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644720" y="6514200"/>
            <a:ext cx="1999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arm1.static.flickr.com/182/396213261_87ca36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743160" y="5496120"/>
            <a:ext cx="213372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opendoorvcf.org/.../2684/Open_Door_Door_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0"/>
          <a:srcRect l="171" t="0" r="0" b="0"/>
          <a:stretch/>
        </p:blipFill>
        <p:spPr>
          <a:xfrm>
            <a:off x="4808520" y="4142160"/>
            <a:ext cx="1666080" cy="2226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stude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blogge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edublogs.or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Ginny Hok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epals.co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- online pen p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teache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ll Richardson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eblogg-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athy Schrock’s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Kaffeklats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vid Warlick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2 Cents Wo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6600" y="223200"/>
            <a:ext cx="760788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s -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 plain englis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/Users/admin/Documents/Documents/TRLD/TRLD 2009/Promise_Practice.key/TeacherTube - Wikis in Plain English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38240" y="1107360"/>
            <a:ext cx="707184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 - 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4jTI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he Wright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Chaucer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ritish Romantic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9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Flat Classroom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st of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Educational Wiki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30760" y="6032160"/>
            <a:ext cx="1008720" cy="187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13" action="ppaction://hlinksldjump"/>
              </a:rPr>
              <a:t>Return to outli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0320" y="178560"/>
            <a:ext cx="79826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llaborative community: Teacher Resourc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7880" y="2044800"/>
            <a:ext cx="7607880" cy="40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classroom 2.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apped 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slidesh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Optima"/>
                <a:ea typeface="Optima"/>
              </a:rPr>
              <a:t>last wo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will this technology provide that is uniq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can I do better, instructionally, with this than what I could do without i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writing, reading and think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se familiar stori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thing that is personally meaningfu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just saying the word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merely describing the experien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e 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One: What do I have to sa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wo: Artifact Sear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hree: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Storyboar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our: Story Circ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ive: Revising the Scrip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25840" y="927720"/>
            <a:ext cx="7482600" cy="562536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rcRect l="20858" t="0" r="20917" b="0"/>
          <a:stretch/>
        </p:blipFill>
        <p:spPr>
          <a:xfrm>
            <a:off x="4956120" y="1145160"/>
            <a:ext cx="3482280" cy="46429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6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rcRect l="20416" t="0" r="20375" b="0"/>
          <a:stretch/>
        </p:blipFill>
        <p:spPr>
          <a:xfrm>
            <a:off x="705600" y="1139760"/>
            <a:ext cx="3517920" cy="46900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9" name="Rectangle 4"/>
          <p:cNvSpPr/>
          <p:nvPr/>
        </p:nvSpPr>
        <p:spPr>
          <a:xfrm>
            <a:off x="6674760" y="6144120"/>
            <a:ext cx="1601280" cy="198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Book Antiqua"/>
                <a:ea typeface="Palatino"/>
              </a:rPr>
              <a:t>Pre production ste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 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ort digital pictures into movie software (iMovie or Movie Make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ransi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special effe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itles, cred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CONTENT...CONTENT...CONT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helpful hi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7880" y="1839600"/>
            <a:ext cx="76078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542880" indent="-4071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, save, </a:t>
            </a: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save your work!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steps to follow - outline, check li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afts and storyboards BEFORE compu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rrate in small chun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cus on writing/rea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 a scoring rubr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7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eck copyri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0</TotalTime>
  <Application>LibreOffice/7.4.7.2$Linux_X86_64 LibreOffice_project/40$Build-2</Application>
  <AppVersion>15.0000</AppVersion>
  <Words>769</Words>
  <Paragraphs>1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22:32Z</dcterms:created>
  <dc:creator>Eugene 4J School District</dc:creator>
  <dc:description/>
  <dc:language>en-US</dc:language>
  <cp:lastModifiedBy>Eugene 4J School District</cp:lastModifiedBy>
  <dcterms:modified xsi:type="dcterms:W3CDTF">2009-01-23T06:23:06Z</dcterms:modified>
  <cp:revision>1</cp:revision>
  <dc:subject/>
  <dc:title>content cre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35</vt:r8>
  </property>
</Properties>
</file>