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9.pct" ContentType="image/x-pict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4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34680" y="380880"/>
            <a:ext cx="117349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520" y="2476440"/>
            <a:ext cx="10947240" cy="271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520" y="5206680"/>
            <a:ext cx="109472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1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2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3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4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5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6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35040" y="2145960"/>
            <a:ext cx="596880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40608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728640" indent="-4057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093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45764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242200" y="2145960"/>
            <a:ext cx="412776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3660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6040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9064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2088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15112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15112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15112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34680" y="888480"/>
            <a:ext cx="11734920" cy="797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112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1" marL="737640" indent="-41076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2" marL="1106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3" marL="1475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4" marL="1844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5" marL="1844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6" marL="1844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112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1" marL="737640" indent="-41076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106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3" marL="1475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4" marL="1844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5" marL="1844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6" marL="1844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35040" y="2145960"/>
            <a:ext cx="596880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40608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728640" indent="-4057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093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45764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4654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835200" indent="-46512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25316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67112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20890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20890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20890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35040" y="2463480"/>
            <a:ext cx="6006960" cy="271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65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35040" y="5206680"/>
            <a:ext cx="600696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1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2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3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4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5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6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40608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1" marL="77076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1347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3" marL="149940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4" marL="186408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5" marL="1864080" indent="-406080">
              <a:spcBef>
                <a:spcPts val="95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6" marL="1864080" indent="-406080">
              <a:spcBef>
                <a:spcPts val="95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40608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1" marL="77076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1347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3" marL="149940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4" marL="186408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5" marL="1864080" indent="-406080">
              <a:spcBef>
                <a:spcPts val="95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6" marL="1864080" indent="-406080">
              <a:spcBef>
                <a:spcPts val="95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34680" y="7721640"/>
            <a:ext cx="11734920" cy="1473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28520" y="2945880"/>
            <a:ext cx="10947240" cy="386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hyperlink" Target="http://rubistar.4teachers.org/" TargetMode="External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" Target=""/><Relationship Id="rId4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hyperlink" Target="http://www.nzmaths.co.nz/.../VolumeImages/popcorn.gif" TargetMode="External"/><Relationship Id="rId10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lhsvoicesofthesixties.blogspot.com/search/label/Lonnie%2520Dean%2520Moore" TargetMode="External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hyperlink" Target="http://www.digitales.us/story_details.php?story_id=101" TargetMode="External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hyperlink" Target="http://4jtilt.wikispaces.com/Digital+Storytelling" TargetMode="External"/><Relationship Id="rId1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digitales.us/index.php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storycenter.org/index1.html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4jtilt.wikispaces.com/Digital+Storytelling" TargetMode="External"/><Relationship Id="rId9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waterford.lib.mi.us/.../images/quillpen.gif" TargetMode="External"/><Relationship Id="rId9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hyperlink" Target="http://www.britishembassy.gov.uk/.../Open-doorWEB.jpg" TargetMode="External"/><Relationship Id="rId1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28520" y="2476440"/>
            <a:ext cx="10947240" cy="271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Digital Storytelling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28520" y="5206680"/>
            <a:ext cx="109472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TRLD, San Francisco, 2009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Marilyn Williams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7010280" y="1590840"/>
            <a:ext cx="5029200" cy="6680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20000"/>
              </a:srgbClr>
            </a:outerShdw>
          </a:effectLst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91880" y="253800"/>
            <a:ext cx="10820520" cy="990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2b2922"/>
                </a:solidFill>
                <a:latin typeface="Copperplate Light"/>
              </a:rPr>
              <a:t>storyboards</a:t>
            </a:r>
            <a:endParaRPr b="0" lang="en-US" sz="6500" spc="-1" strike="noStrike">
              <a:solidFill>
                <a:srgbClr val="2b2922"/>
              </a:solidFill>
              <a:latin typeface="Copperplate Light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3"/>
          <a:srcRect l="20422" t="0" r="20375" b="0"/>
          <a:stretch/>
        </p:blipFill>
        <p:spPr>
          <a:xfrm>
            <a:off x="1003320" y="1620720"/>
            <a:ext cx="5003640" cy="6670800"/>
          </a:xfrm>
          <a:prstGeom prst="rect">
            <a:avLst/>
          </a:prstGeom>
          <a:ln w="177840">
            <a:solidFill>
              <a:srgbClr val="e6e7e5"/>
            </a:solidFill>
            <a:miter/>
          </a:ln>
          <a:effectLst>
            <a:outerShdw dist="190440" dir="5400000" blurRad="0" rotWithShape="0">
              <a:srgbClr val="000000">
                <a:alpha val="30000"/>
              </a:srgbClr>
            </a:outerShdw>
          </a:effectLst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8926560" y="2717640"/>
            <a:ext cx="2311200" cy="2235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20000"/>
              </a:srgbClr>
            </a:outerShdw>
          </a:effectLst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91880" y="253800"/>
            <a:ext cx="10820520" cy="1028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2922"/>
                </a:solidFill>
                <a:latin typeface="Copperplate Light"/>
              </a:rPr>
              <a:t>Content creation</a:t>
            </a:r>
            <a:endParaRPr b="0" lang="en-US" sz="48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92240" y="2234880"/>
            <a:ext cx="4191120" cy="382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lvl="1" marL="930240" indent="0">
              <a:lnSpc>
                <a:spcPct val="100000"/>
              </a:lnSpc>
              <a:spcBef>
                <a:spcPts val="50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b2922"/>
              </a:solidFill>
              <a:latin typeface="Copperplate"/>
            </a:endParaRPr>
          </a:p>
          <a:p>
            <a:pPr lvl="1" marL="930240" indent="-49032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2"/>
                </a:solidFill>
                <a:latin typeface="Copperplate"/>
              </a:rPr>
              <a:t>digital cameras</a:t>
            </a:r>
            <a:endParaRPr b="0" lang="en-US" sz="3000" spc="-1" strike="noStrike">
              <a:solidFill>
                <a:srgbClr val="2b2922"/>
              </a:solidFill>
              <a:latin typeface="Copperplate"/>
            </a:endParaRPr>
          </a:p>
          <a:p>
            <a:pPr lvl="1" marL="930240" indent="-49032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2"/>
                </a:solidFill>
                <a:latin typeface="Copperplate"/>
              </a:rPr>
              <a:t>video cameras</a:t>
            </a:r>
            <a:endParaRPr b="0" lang="en-US" sz="3000" spc="-1" strike="noStrike">
              <a:solidFill>
                <a:srgbClr val="2b2922"/>
              </a:solidFill>
              <a:latin typeface="Copperplate"/>
            </a:endParaRPr>
          </a:p>
          <a:p>
            <a:pPr lvl="1" marL="930240" indent="-49032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2"/>
                </a:solidFill>
                <a:latin typeface="Copperplate"/>
              </a:rPr>
              <a:t>recording devices</a:t>
            </a:r>
            <a:endParaRPr b="0" lang="en-US" sz="3000" spc="-1" strike="noStrike">
              <a:solidFill>
                <a:srgbClr val="2b2922"/>
              </a:solidFill>
              <a:latin typeface="Copperplate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6"/>
          <a:stretch/>
        </p:blipFill>
        <p:spPr>
          <a:xfrm>
            <a:off x="6458040" y="2224080"/>
            <a:ext cx="1687320" cy="2556000"/>
          </a:xfrm>
          <a:prstGeom prst="rect">
            <a:avLst/>
          </a:prstGeom>
          <a:ln w="177840">
            <a:solidFill>
              <a:srgbClr val="e6e7e5"/>
            </a:solidFill>
            <a:miter/>
          </a:ln>
          <a:effectLst>
            <a:outerShdw dist="190440" dir="5400000" blurRad="0" rotWithShape="0">
              <a:srgbClr val="000000">
                <a:alpha val="30000"/>
              </a:srgbClr>
            </a:outerShdw>
          </a:effectLst>
        </p:spPr>
      </p:pic>
      <p:pic>
        <p:nvPicPr>
          <p:cNvPr id="485" name="" descr=""/>
          <p:cNvPicPr/>
          <p:nvPr/>
        </p:nvPicPr>
        <p:blipFill>
          <a:blip r:embed="rId7"/>
          <a:stretch/>
        </p:blipFill>
        <p:spPr>
          <a:xfrm>
            <a:off x="6485040" y="5783400"/>
            <a:ext cx="2200320" cy="1541160"/>
          </a:xfrm>
          <a:prstGeom prst="rect">
            <a:avLst/>
          </a:prstGeom>
          <a:ln w="177840">
            <a:solidFill>
              <a:srgbClr val="e6e7e5"/>
            </a:solidFill>
            <a:miter/>
          </a:ln>
          <a:effectLst>
            <a:outerShdw dist="190440" dir="5400000" blurRad="0" rotWithShape="0">
              <a:srgbClr val="000000">
                <a:alpha val="30000"/>
              </a:srgbClr>
            </a:outerShdw>
          </a:effectLst>
        </p:spPr>
      </p:pic>
      <p:pic>
        <p:nvPicPr>
          <p:cNvPr id="486" name="" descr=""/>
          <p:cNvPicPr/>
          <p:nvPr/>
        </p:nvPicPr>
        <p:blipFill>
          <a:blip r:embed="rId8"/>
          <a:stretch/>
        </p:blipFill>
        <p:spPr>
          <a:xfrm>
            <a:off x="9794880" y="5483160"/>
            <a:ext cx="1668600" cy="3308400"/>
          </a:xfrm>
          <a:prstGeom prst="rect">
            <a:avLst/>
          </a:prstGeom>
          <a:ln w="177840">
            <a:solidFill>
              <a:srgbClr val="e6e7e5"/>
            </a:solidFill>
            <a:miter/>
          </a:ln>
          <a:effectLst>
            <a:outerShdw dist="190440" dir="5400000" blurRad="0" rotWithShape="0">
              <a:srgbClr val="000000">
                <a:alpha val="30000"/>
              </a:srgbClr>
            </a:outerShdw>
          </a:effectLst>
        </p:spPr>
      </p:pic>
      <p:pic>
        <p:nvPicPr>
          <p:cNvPr id="487" name="" descr=""/>
          <p:cNvPicPr/>
          <p:nvPr/>
        </p:nvPicPr>
        <p:blipFill>
          <a:blip r:embed="rId9"/>
          <a:srcRect l="0" t="210" r="0" b="0"/>
          <a:stretch/>
        </p:blipFill>
        <p:spPr>
          <a:xfrm>
            <a:off x="2905200" y="6505560"/>
            <a:ext cx="2049480" cy="1887480"/>
          </a:xfrm>
          <a:prstGeom prst="rect">
            <a:avLst/>
          </a:prstGeom>
          <a:ln w="177840">
            <a:solidFill>
              <a:srgbClr val="e6e7e5"/>
            </a:solidFill>
            <a:miter/>
          </a:ln>
          <a:effectLst>
            <a:outerShdw dist="190440" dir="5400000" blurRad="0" rotWithShape="0">
              <a:srgbClr val="000000">
                <a:alpha val="30000"/>
              </a:srgbClr>
            </a:outerShdw>
          </a:effectLst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4680" y="215640"/>
            <a:ext cx="1173492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Steps - </a:t>
            </a:r>
            <a:r>
              <a:rPr b="0" lang="en-US" sz="4800" spc="-1" strike="noStrike">
                <a:solidFill>
                  <a:srgbClr val="2b2922"/>
                </a:solidFill>
                <a:latin typeface="Copperplate Light"/>
              </a:rPr>
              <a:t>production</a:t>
            </a:r>
            <a:endParaRPr b="0" lang="en-US" sz="48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434600"/>
            <a:ext cx="1214136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import digital pictures into movie software (iMovie or Movie Maker)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add narration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add transition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add special effect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add titles, credit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0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800000"/>
                </a:solidFill>
                <a:latin typeface="Copperplate"/>
              </a:rPr>
              <a:t>CONTENT...CONTENT...CONTENT</a:t>
            </a:r>
            <a:endParaRPr b="0" lang="en-US" sz="55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34680" y="37800"/>
            <a:ext cx="1173492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helpful hints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61760" y="1422360"/>
            <a:ext cx="11480760" cy="815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475200" indent="-4752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ave,</a:t>
            </a: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 save, </a:t>
            </a:r>
            <a:r>
              <a:rPr b="0" lang="en-US" sz="5000" spc="-1" strike="noStrike">
                <a:solidFill>
                  <a:srgbClr val="2b2922"/>
                </a:solidFill>
                <a:latin typeface="Copperplate"/>
              </a:rPr>
              <a:t>save your work!</a:t>
            </a:r>
            <a:endParaRPr b="0" lang="en-US" sz="5000" spc="-1" strike="noStrike">
              <a:solidFill>
                <a:srgbClr val="2b2922"/>
              </a:solidFill>
              <a:latin typeface="Copperplate"/>
            </a:endParaRPr>
          </a:p>
          <a:p>
            <a:pPr lvl="2" marL="1328760" indent="-475200">
              <a:lnSpc>
                <a:spcPct val="100000"/>
              </a:lnSpc>
              <a:spcBef>
                <a:spcPts val="29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2"/>
                </a:solidFill>
                <a:latin typeface="Copperplate"/>
              </a:rPr>
              <a:t>jumpdrive, external hard drive, server, CD, DVD</a:t>
            </a:r>
            <a:endParaRPr b="0" lang="en-US" sz="3000" spc="-1" strike="noStrike">
              <a:solidFill>
                <a:srgbClr val="2b2922"/>
              </a:solidFill>
              <a:latin typeface="Copperplate"/>
            </a:endParaRPr>
          </a:p>
          <a:p>
            <a:pPr marL="475200" indent="-475200">
              <a:lnSpc>
                <a:spcPct val="100000"/>
              </a:lnSpc>
              <a:spcBef>
                <a:spcPts val="29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create steps to follow - outline, </a:t>
            </a:r>
            <a:r>
              <a:rPr b="0" lang="en-US" sz="3800" spc="-1" strike="noStrike" u="sng">
                <a:solidFill>
                  <a:srgbClr val="009999"/>
                </a:solidFill>
                <a:uFillTx/>
                <a:latin typeface="Copperplate"/>
                <a:hlinkClick r:id="rId5" action="ppaction://hlinksldjump"/>
              </a:rPr>
              <a:t>check list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75200" indent="-475200">
              <a:lnSpc>
                <a:spcPct val="100000"/>
              </a:lnSpc>
              <a:spcBef>
                <a:spcPts val="29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drafts and storyboards BEFORE computer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75200" indent="-475200">
              <a:lnSpc>
                <a:spcPct val="100000"/>
              </a:lnSpc>
              <a:spcBef>
                <a:spcPts val="29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narrate in small chunk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75200" indent="-475200">
              <a:lnSpc>
                <a:spcPct val="100000"/>
              </a:lnSpc>
              <a:spcBef>
                <a:spcPts val="29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ocus on writing/reading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75200" indent="-475200">
              <a:lnSpc>
                <a:spcPct val="100000"/>
              </a:lnSpc>
              <a:spcBef>
                <a:spcPts val="29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provide a scoring </a:t>
            </a:r>
            <a:r>
              <a:rPr b="0" lang="en-US" sz="3800" spc="-1" strike="noStrike" u="sng">
                <a:solidFill>
                  <a:srgbClr val="009999"/>
                </a:solidFill>
                <a:uFillTx/>
                <a:latin typeface="Copperplate"/>
                <a:hlinkClick r:id="rId10"/>
              </a:rPr>
              <a:t>rubric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75200" indent="-475200">
              <a:lnSpc>
                <a:spcPct val="100000"/>
              </a:lnSpc>
              <a:spcBef>
                <a:spcPts val="29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check copyright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75200" indent="-475200">
              <a:lnSpc>
                <a:spcPct val="100000"/>
              </a:lnSpc>
              <a:spcBef>
                <a:spcPts val="29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permission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34680" y="88560"/>
            <a:ext cx="117349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b2922"/>
                </a:solidFill>
                <a:latin typeface="Copperplate Light"/>
              </a:rPr>
              <a:t>Checklist</a:t>
            </a:r>
            <a:endParaRPr b="0" lang="en-US" sz="64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93" name=""/>
          <p:cNvSpPr/>
          <p:nvPr/>
        </p:nvSpPr>
        <p:spPr>
          <a:xfrm>
            <a:off x="6438960" y="1773720"/>
            <a:ext cx="114120" cy="62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922"/>
              </a:solidFill>
              <a:latin typeface="Copperplate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20600" y="1701720"/>
            <a:ext cx="12534840" cy="52578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7821720" y="7283520"/>
            <a:ext cx="4863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922"/>
                </a:solidFill>
                <a:latin typeface="Copperplate"/>
                <a:ea typeface="Copperplate"/>
              </a:rPr>
              <a:t>adapted from Ginny Hoke</a:t>
            </a:r>
            <a:endParaRPr b="0" lang="en-US" sz="24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96" name=""/>
          <p:cNvSpPr/>
          <p:nvPr/>
        </p:nvSpPr>
        <p:spPr>
          <a:xfrm>
            <a:off x="9628920" y="7949520"/>
            <a:ext cx="1247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opperplate"/>
                <a:ea typeface="Copperplate"/>
                <a:hlinkClick r:id="rId3" action="ppaction://hlinksldjump"/>
              </a:rPr>
              <a:t>Return to hints</a:t>
            </a:r>
            <a:endParaRPr b="0" lang="en-US" sz="1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905040" y="2041560"/>
            <a:ext cx="11201400" cy="7391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20000"/>
              </a:srgbClr>
            </a:outerShdw>
          </a:effectLst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16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Post-Production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Post Production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49160" y="2006280"/>
            <a:ext cx="657864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creening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assroom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assembly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lm festiva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eedback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hare - website, wiki, blog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8"/>
          <a:stretch/>
        </p:blipFill>
        <p:spPr>
          <a:xfrm>
            <a:off x="8077320" y="3157560"/>
            <a:ext cx="3201840" cy="3436920"/>
          </a:xfrm>
          <a:prstGeom prst="rect">
            <a:avLst/>
          </a:prstGeom>
          <a:ln w="177840">
            <a:solidFill>
              <a:srgbClr val="e6e7e5"/>
            </a:solidFill>
            <a:miter/>
          </a:ln>
          <a:effectLst>
            <a:outerShdw dist="190440" dir="5400000" blurRad="0" rotWithShape="0">
              <a:srgbClr val="000000">
                <a:alpha val="30000"/>
              </a:srgbClr>
            </a:outerShdw>
          </a:effectLst>
        </p:spPr>
      </p:pic>
      <p:sp>
        <p:nvSpPr>
          <p:cNvPr id="502" name=""/>
          <p:cNvSpPr/>
          <p:nvPr/>
        </p:nvSpPr>
        <p:spPr>
          <a:xfrm>
            <a:off x="7567560" y="6858000"/>
            <a:ext cx="4216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Copperplate"/>
                <a:ea typeface="Copperplate"/>
                <a:hlinkClick r:id="rId9"/>
              </a:rPr>
              <a:t>www.nzmaths.co.nz/.../VolumeImages/popcorn.gif</a:t>
            </a:r>
            <a:endParaRPr b="0" lang="en-US" sz="13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Digital Storytelling </a:t>
            </a:r>
            <a:r>
              <a:rPr b="0" lang="en-US" sz="4800" spc="-1" strike="noStrike">
                <a:solidFill>
                  <a:srgbClr val="2b2922"/>
                </a:solidFill>
                <a:latin typeface="Copperplate Light"/>
              </a:rPr>
              <a:t>examples</a:t>
            </a:r>
            <a:endParaRPr b="0" lang="en-US" sz="48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Copperplate"/>
                <a:hlinkClick r:id="rId3"/>
              </a:rPr>
              <a:t>Lonnie Dean Moore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Copperplate"/>
                <a:hlinkClick r:id="rId5" action="ppaction://hlinksldjump"/>
              </a:rPr>
              <a:t>Rusty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Copperplate"/>
                <a:hlinkClick r:id="rId7"/>
              </a:rPr>
              <a:t>Bernajean Porter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resources 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38420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Copperplate"/>
                <a:hlinkClick r:id="rId10"/>
              </a:rPr>
              <a:t>4jTILT.wikispaces</a:t>
            </a: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.com/Digital+Storytelling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Dig_Story.ppt_media/rusty-2.mov" descr=""/>
          <p:cNvPicPr/>
          <p:nvPr/>
        </p:nvPicPr>
        <p:blipFill>
          <a:blip r:embed="rId2"/>
          <a:stretch/>
        </p:blipFill>
        <p:spPr>
          <a:xfrm>
            <a:off x="2451240" y="571680"/>
            <a:ext cx="8826480" cy="8826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resources - links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2280" y="2145960"/>
            <a:ext cx="1248408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DigiTales: The Art of Telling Digital Stories</a:t>
            </a: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 </a:t>
            </a:r>
            <a:r>
              <a:rPr b="0" lang="en-US" sz="2400" spc="-1" strike="noStrike">
                <a:solidFill>
                  <a:srgbClr val="2b2922"/>
                </a:solidFill>
                <a:latin typeface="Copperplate"/>
              </a:rPr>
              <a:t>(Bernajean Porter)</a:t>
            </a:r>
            <a:endParaRPr b="0" lang="en-US" sz="24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Copperplate"/>
                <a:hlinkClick r:id="rId4"/>
              </a:rPr>
              <a:t>digitales</a:t>
            </a:r>
            <a:endParaRPr b="0" lang="en-US" sz="4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Copperplate"/>
                <a:hlinkClick r:id="rId6"/>
              </a:rPr>
              <a:t>center for digital storytelling</a:t>
            </a:r>
            <a:endParaRPr b="0" lang="en-US" sz="4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Copperplate"/>
                <a:hlinkClick r:id="rId8"/>
              </a:rPr>
              <a:t>4jTILT.wikispaces.com/digital+Storytelling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1258560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b2922"/>
                </a:solidFill>
                <a:latin typeface="Copperplate Light"/>
              </a:rPr>
              <a:t>What is Digital Storytelling?</a:t>
            </a:r>
            <a:endParaRPr b="0" lang="en-US" sz="64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“</a:t>
            </a: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Digital storytelling takes the ancient art of oral storytelling and engages a palette of technical tools to weave personal tales using images, graphics, music and sound mixed together with the author's own story voice.” </a:t>
            </a:r>
            <a:r>
              <a:rPr b="0" lang="en-US" sz="2400" spc="-1" strike="noStrike">
                <a:solidFill>
                  <a:srgbClr val="2b2922"/>
                </a:solidFill>
                <a:latin typeface="Copperplate"/>
              </a:rPr>
              <a:t>(Bernajean Porter)</a:t>
            </a:r>
            <a:endParaRPr b="0" lang="en-US" sz="2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7201080" y="2641680"/>
            <a:ext cx="4952880" cy="575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20000"/>
              </a:srgbClr>
            </a:outerShdw>
          </a:effectLst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activity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35040" y="2145960"/>
            <a:ext cx="596880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writing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Copperplate"/>
                <a:hlinkClick r:id="rId4" action="ppaction://hlinksldjump"/>
              </a:rPr>
              <a:t>prompt</a:t>
            </a: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 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toryboard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tory circle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revise/edi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11" name=""/>
          <p:cNvSpPr/>
          <p:nvPr/>
        </p:nvSpPr>
        <p:spPr>
          <a:xfrm>
            <a:off x="7453440" y="8591400"/>
            <a:ext cx="4444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opperplate"/>
                <a:ea typeface="Copperplate"/>
                <a:hlinkClick r:id="rId8"/>
              </a:rPr>
              <a:t>www.waterford.lib.mi.us/.../images/quillpen.gif</a:t>
            </a:r>
            <a:endParaRPr b="0" lang="en-US" sz="1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6227640" y="1587600"/>
            <a:ext cx="2895840" cy="382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20000"/>
              </a:srgbClr>
            </a:outerShdw>
          </a:effectLst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91880" y="253800"/>
            <a:ext cx="10820520" cy="130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digital storytelling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35040" y="1955880"/>
            <a:ext cx="5270400" cy="707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939960" indent="-49536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point of view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dramatic question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emotional conten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voice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oundtrack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pacing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economy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0"/>
          <a:srcRect l="174" t="9355" r="0" b="9502"/>
          <a:stretch/>
        </p:blipFill>
        <p:spPr>
          <a:xfrm>
            <a:off x="9574200" y="3390840"/>
            <a:ext cx="3070080" cy="4102200"/>
          </a:xfrm>
          <a:prstGeom prst="rect">
            <a:avLst/>
          </a:prstGeom>
          <a:ln w="177840">
            <a:solidFill>
              <a:srgbClr val="e6e7e5"/>
            </a:solidFill>
            <a:miter/>
          </a:ln>
          <a:effectLst>
            <a:outerShdw dist="190440" dir="5400000" blurRad="0" rotWithShape="0">
              <a:srgbClr val="000000">
                <a:alpha val="30000"/>
              </a:srgbClr>
            </a:outerShdw>
          </a:effectLst>
        </p:spPr>
      </p:pic>
      <p:sp>
        <p:nvSpPr>
          <p:cNvPr id="516" name=""/>
          <p:cNvSpPr/>
          <p:nvPr/>
        </p:nvSpPr>
        <p:spPr>
          <a:xfrm>
            <a:off x="6422040" y="5531760"/>
            <a:ext cx="2487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b2922"/>
                </a:solidFill>
                <a:latin typeface="Copperplate"/>
                <a:ea typeface="Copperplate"/>
              </a:rPr>
              <a:t>foxtalbot.dmu.ac.uk/.../LrgeImg/openDoor.jpg</a:t>
            </a:r>
            <a:endParaRPr b="0" lang="en-US" sz="9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17" name=""/>
          <p:cNvSpPr/>
          <p:nvPr/>
        </p:nvSpPr>
        <p:spPr>
          <a:xfrm>
            <a:off x="6605640" y="9220320"/>
            <a:ext cx="2844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b2922"/>
                </a:solidFill>
                <a:latin typeface="Copperplate"/>
                <a:ea typeface="Copperplate"/>
              </a:rPr>
              <a:t>farm1.static.flickr.com/182/396213261_87ca366</a:t>
            </a:r>
            <a:endParaRPr b="0" lang="en-US" sz="9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18" name=""/>
          <p:cNvSpPr/>
          <p:nvPr/>
        </p:nvSpPr>
        <p:spPr>
          <a:xfrm>
            <a:off x="9590040" y="7772400"/>
            <a:ext cx="3035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2b2922"/>
                </a:solidFill>
                <a:uFillTx/>
                <a:latin typeface="Copperplate"/>
                <a:ea typeface="Copperplate"/>
              </a:rPr>
              <a:t>www.opendoorvcf.org/.../2684/Open_Door_Door_.jpg</a:t>
            </a:r>
            <a:endParaRPr b="0" lang="en-US" sz="900" spc="-1" strike="noStrike">
              <a:solidFill>
                <a:srgbClr val="2b2922"/>
              </a:solidFill>
              <a:latin typeface="Copperplate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1"/>
          <a:srcRect l="171" t="0" r="0" b="0"/>
          <a:stretch/>
        </p:blipFill>
        <p:spPr>
          <a:xfrm>
            <a:off x="6838920" y="5891040"/>
            <a:ext cx="2370240" cy="3167280"/>
          </a:xfrm>
          <a:prstGeom prst="rect">
            <a:avLst/>
          </a:prstGeom>
          <a:ln w="177840">
            <a:solidFill>
              <a:srgbClr val="e6e7e5"/>
            </a:solidFill>
            <a:miter/>
          </a:ln>
          <a:effectLst>
            <a:outerShdw dist="190440" dir="5400000" blurRad="0" rotWithShape="0">
              <a:srgbClr val="000000">
                <a:alpha val="30000"/>
              </a:srgbClr>
            </a:outerShdw>
          </a:effectLst>
        </p:spPr>
      </p:pic>
      <p:sp>
        <p:nvSpPr>
          <p:cNvPr id="520" name=""/>
          <p:cNvSpPr/>
          <p:nvPr/>
        </p:nvSpPr>
        <p:spPr>
          <a:xfrm>
            <a:off x="10185120" y="8681400"/>
            <a:ext cx="1843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Copperplate"/>
                <a:ea typeface="Copperplate"/>
              </a:rPr>
              <a:t>activity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91880" y="240840"/>
            <a:ext cx="10820520" cy="93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NETS*S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22" name=""/>
          <p:cNvSpPr/>
          <p:nvPr/>
        </p:nvSpPr>
        <p:spPr>
          <a:xfrm>
            <a:off x="453960" y="965160"/>
            <a:ext cx="124840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b2922"/>
              </a:solidFill>
              <a:latin typeface="Copperplat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b2922"/>
                </a:solidFill>
                <a:latin typeface="Times New Roman"/>
                <a:ea typeface="Times New Roman"/>
              </a:rPr>
              <a:t>“</a:t>
            </a:r>
            <a:r>
              <a:rPr b="1" lang="en-US" sz="3000" spc="-1" strike="noStrike">
                <a:solidFill>
                  <a:srgbClr val="2b2922"/>
                </a:solidFill>
                <a:latin typeface="Times New Roman"/>
                <a:ea typeface="Times New Roman"/>
              </a:rPr>
              <a:t>What students should know and be able to do to learn effectively and </a:t>
            </a:r>
            <a:endParaRPr b="0" lang="en-US" sz="3000" spc="-1" strike="noStrike">
              <a:solidFill>
                <a:srgbClr val="2b2922"/>
              </a:solidFill>
              <a:latin typeface="Copperplat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b2922"/>
                </a:solidFill>
                <a:latin typeface="Times New Roman"/>
                <a:ea typeface="Times New Roman"/>
              </a:rPr>
              <a:t>live productively in an increasingly digital world …”</a:t>
            </a:r>
            <a:endParaRPr b="0" lang="en-US" sz="3000" spc="-1" strike="noStrike">
              <a:solidFill>
                <a:srgbClr val="2b2922"/>
              </a:solidFill>
              <a:latin typeface="Copperplat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23" name=""/>
          <p:cNvSpPr/>
          <p:nvPr/>
        </p:nvSpPr>
        <p:spPr>
          <a:xfrm>
            <a:off x="635040" y="2711520"/>
            <a:ext cx="97790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marL="127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2922"/>
                </a:solidFill>
                <a:latin typeface="Times New Roman"/>
                <a:ea typeface="Times New Roman"/>
              </a:rPr>
              <a:t>1.    Creativity and Innovation </a:t>
            </a:r>
            <a:endParaRPr b="0" lang="en-US" sz="2200" spc="-1" strike="noStrike">
              <a:solidFill>
                <a:srgbClr val="2b2922"/>
              </a:solidFill>
              <a:latin typeface="Copperplate"/>
            </a:endParaRPr>
          </a:p>
          <a:p>
            <a:pPr marL="127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922"/>
                </a:solidFill>
                <a:latin typeface="Times New Roman"/>
                <a:ea typeface="Times New Roman"/>
              </a:rPr>
              <a:t>Students demonstrate creative thinking, construct knowledge, and develop innovative products and processes using technology</a:t>
            </a:r>
            <a:endParaRPr b="0" lang="en-US" sz="22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24" name=""/>
          <p:cNvSpPr/>
          <p:nvPr/>
        </p:nvSpPr>
        <p:spPr>
          <a:xfrm>
            <a:off x="596880" y="3956040"/>
            <a:ext cx="11163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marL="127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2922"/>
                </a:solidFill>
                <a:latin typeface="Times New Roman"/>
                <a:ea typeface="Times New Roman"/>
              </a:rPr>
              <a:t>2.  Communication and Collaboration </a:t>
            </a:r>
            <a:endParaRPr b="0" lang="en-US" sz="2200" spc="-1" strike="noStrike">
              <a:solidFill>
                <a:srgbClr val="2b2922"/>
              </a:solidFill>
              <a:latin typeface="Copperplate"/>
            </a:endParaRPr>
          </a:p>
          <a:p>
            <a:pPr marL="127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922"/>
                </a:solidFill>
                <a:latin typeface="Times New Roman"/>
                <a:ea typeface="Times New Roman"/>
              </a:rPr>
              <a:t>Students use digital media and environments to communicate and work collaboratively, including at a distance, to support individual learning and contribute to the learning of others</a:t>
            </a:r>
            <a:endParaRPr b="0" lang="en-US" sz="22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25" name=""/>
          <p:cNvSpPr/>
          <p:nvPr/>
        </p:nvSpPr>
        <p:spPr>
          <a:xfrm>
            <a:off x="377640" y="5277960"/>
            <a:ext cx="83512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0" tIns="0" bIns="0" anchor="ctr">
            <a:spAutoFit/>
          </a:bodyPr>
          <a:p>
            <a:pPr marL="12708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2922"/>
                </a:solidFill>
                <a:latin typeface="Times New Roman"/>
                <a:ea typeface="Times New Roman"/>
              </a:rPr>
              <a:t>3.  Research and Information Fluency  </a:t>
            </a:r>
            <a:endParaRPr b="0" lang="en-US" sz="2200" spc="-1" strike="noStrike">
              <a:solidFill>
                <a:srgbClr val="2b2922"/>
              </a:solidFill>
              <a:latin typeface="Copperplate"/>
            </a:endParaRPr>
          </a:p>
          <a:p>
            <a:pPr marL="12708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922"/>
                </a:solidFill>
                <a:latin typeface="Times New Roman"/>
                <a:ea typeface="Times New Roman"/>
              </a:rPr>
              <a:t>Students apply digital tools to gather, evaluate, and use information.  </a:t>
            </a:r>
            <a:endParaRPr b="0" lang="en-US" sz="22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26" name=""/>
          <p:cNvSpPr/>
          <p:nvPr/>
        </p:nvSpPr>
        <p:spPr>
          <a:xfrm>
            <a:off x="584280" y="6153120"/>
            <a:ext cx="11633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marL="152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2922"/>
                </a:solidFill>
                <a:latin typeface="Times New Roman"/>
                <a:ea typeface="Times New Roman"/>
              </a:rPr>
              <a:t>4.  Critical Thinking, Problem-Solving &amp; Decision-Making </a:t>
            </a:r>
            <a:endParaRPr b="0" lang="en-US" sz="2200" spc="-1" strike="noStrike">
              <a:solidFill>
                <a:srgbClr val="2b2922"/>
              </a:solidFill>
              <a:latin typeface="Copperplate"/>
            </a:endParaRPr>
          </a:p>
          <a:p>
            <a:pPr marL="152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922"/>
                </a:solidFill>
                <a:latin typeface="Times New Roman"/>
                <a:ea typeface="Times New Roman"/>
              </a:rPr>
              <a:t>Students use critical thinking skills to plan and conduct research, manage projects, solve problems and make informed decisions using appropriate digital tools and resources.  </a:t>
            </a:r>
            <a:endParaRPr b="0" lang="en-US" sz="22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27" name=""/>
          <p:cNvSpPr/>
          <p:nvPr/>
        </p:nvSpPr>
        <p:spPr>
          <a:xfrm>
            <a:off x="622440" y="7270920"/>
            <a:ext cx="113536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marL="152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2922"/>
                </a:solidFill>
                <a:latin typeface="Times New Roman"/>
                <a:ea typeface="Times New Roman"/>
              </a:rPr>
              <a:t>5.  Digital Citizenship </a:t>
            </a:r>
            <a:endParaRPr b="0" lang="en-US" sz="2200" spc="-1" strike="noStrike">
              <a:solidFill>
                <a:srgbClr val="2b2922"/>
              </a:solidFill>
              <a:latin typeface="Copperplate"/>
            </a:endParaRPr>
          </a:p>
          <a:p>
            <a:pPr marL="152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922"/>
                </a:solidFill>
                <a:latin typeface="Times New Roman"/>
                <a:ea typeface="Times New Roman"/>
              </a:rPr>
              <a:t>Students understand human, cultural, and societal issues related to technology and practice legal and ethical behavior.  </a:t>
            </a:r>
            <a:endParaRPr b="0" lang="en-US" sz="22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528" name=""/>
          <p:cNvSpPr/>
          <p:nvPr/>
        </p:nvSpPr>
        <p:spPr>
          <a:xfrm>
            <a:off x="596880" y="8540640"/>
            <a:ext cx="113918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marL="152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2922"/>
                </a:solidFill>
                <a:latin typeface="Times New Roman"/>
                <a:ea typeface="Times New Roman"/>
              </a:rPr>
              <a:t>6. Technology Operations and Concepts </a:t>
            </a:r>
            <a:endParaRPr b="0" lang="en-US" sz="2200" spc="-1" strike="noStrike">
              <a:solidFill>
                <a:srgbClr val="2b2922"/>
              </a:solidFill>
              <a:latin typeface="Copperplate"/>
            </a:endParaRPr>
          </a:p>
          <a:p>
            <a:pPr marL="152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922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2b2922"/>
                </a:solidFill>
                <a:latin typeface="Times New Roman"/>
                <a:ea typeface="Times New Roman"/>
              </a:rPr>
              <a:t>Students demonstrate a sound understanding of technology concepts, systems and operations</a:t>
            </a:r>
            <a:endParaRPr b="0" lang="en-US" sz="22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55680" y="38160"/>
            <a:ext cx="1082016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NETS*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530" name=""/>
          <p:cNvSpPr/>
          <p:nvPr/>
        </p:nvSpPr>
        <p:spPr>
          <a:xfrm>
            <a:off x="139680" y="1212840"/>
            <a:ext cx="1270008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  <a:ea typeface="Copperplate"/>
              </a:rPr>
              <a:t>   </a:t>
            </a:r>
            <a:r>
              <a:rPr b="0" lang="en-US" sz="4400" spc="-1" strike="noStrike">
                <a:solidFill>
                  <a:srgbClr val="2b2922"/>
                </a:solidFill>
                <a:latin typeface="Copperplate"/>
                <a:ea typeface="Copperplate"/>
              </a:rPr>
              <a:t>1. Facilitate and inspire student learning                 and creativity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  <a:ea typeface="Copperplate"/>
              </a:rPr>
              <a:t> </a:t>
            </a:r>
            <a:r>
              <a:rPr b="0" lang="en-US" sz="4400" spc="-1" strike="noStrike">
                <a:solidFill>
                  <a:srgbClr val="2b2922"/>
                </a:solidFill>
                <a:latin typeface="Copperplate"/>
                <a:ea typeface="Copperplate"/>
              </a:rPr>
              <a:t>2. Design and develop digital-age learning experiences and assessments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  <a:ea typeface="Copperplate"/>
              </a:rPr>
              <a:t>   </a:t>
            </a:r>
            <a:r>
              <a:rPr b="0" lang="en-US" sz="4400" spc="-1" strike="noStrike">
                <a:solidFill>
                  <a:srgbClr val="2b2922"/>
                </a:solidFill>
                <a:latin typeface="Copperplate"/>
                <a:ea typeface="Copperplate"/>
              </a:rPr>
              <a:t>3. Model digital-age work and learning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  <a:ea typeface="Copperplate"/>
              </a:rPr>
              <a:t>4. Promote and model digital citizenship and Responsibility                      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  <a:ea typeface="Copperplate"/>
              </a:rPr>
              <a:t>   </a:t>
            </a:r>
            <a:r>
              <a:rPr b="0" lang="en-US" sz="4400" spc="-1" strike="noStrike">
                <a:solidFill>
                  <a:srgbClr val="2b2922"/>
                </a:solidFill>
                <a:latin typeface="Copperplate"/>
                <a:ea typeface="Copperplate"/>
              </a:rPr>
              <a:t>5. Engage in professional growth and          leadership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7470720" y="2489040"/>
            <a:ext cx="3962520" cy="5346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20000"/>
              </a:srgbClr>
            </a:outerShdw>
          </a:effectLst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It Opens a Door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35040" y="2145960"/>
            <a:ext cx="596880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2" marL="138420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persona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38420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mple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38420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engaging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38420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evocative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60" name=""/>
          <p:cNvSpPr/>
          <p:nvPr/>
        </p:nvSpPr>
        <p:spPr>
          <a:xfrm>
            <a:off x="8497800" y="8140680"/>
            <a:ext cx="1892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b2922"/>
                </a:solidFill>
                <a:latin typeface="Copperplate"/>
                <a:ea typeface="Copperplate"/>
              </a:rPr>
              <a:t>farm1.static.flickr.com/182/396213261_87ca366</a:t>
            </a:r>
            <a:endParaRPr b="0" lang="en-US" sz="9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160" y="101160"/>
            <a:ext cx="11696760" cy="143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  </a:t>
            </a: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digital story topics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62" name=""/>
          <p:cNvSpPr/>
          <p:nvPr/>
        </p:nvSpPr>
        <p:spPr>
          <a:xfrm>
            <a:off x="773280" y="2114640"/>
            <a:ext cx="605772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939960" indent="-495360">
              <a:lnSpc>
                <a:spcPct val="10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2922"/>
                </a:solidFill>
                <a:latin typeface="Copperplate"/>
                <a:ea typeface="Copperplate"/>
              </a:rPr>
              <a:t>character</a:t>
            </a:r>
            <a:endParaRPr b="0" lang="en-US" sz="48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2922"/>
                </a:solidFill>
                <a:latin typeface="Copperplate"/>
                <a:ea typeface="Copperplate"/>
              </a:rPr>
              <a:t>memorial</a:t>
            </a:r>
            <a:endParaRPr b="0" lang="en-US" sz="48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2922"/>
                </a:solidFill>
                <a:latin typeface="Copperplate"/>
                <a:ea typeface="Copperplate"/>
              </a:rPr>
              <a:t>adventure</a:t>
            </a:r>
            <a:endParaRPr b="0" lang="en-US" sz="48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3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2922"/>
                </a:solidFill>
                <a:latin typeface="Copperplate"/>
                <a:ea typeface="Copperplate"/>
              </a:rPr>
              <a:t>accomplishment</a:t>
            </a:r>
            <a:endParaRPr b="0" lang="en-US" sz="48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3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2922"/>
                </a:solidFill>
                <a:latin typeface="Copperplate"/>
                <a:ea typeface="Copperplate"/>
              </a:rPr>
              <a:t>place</a:t>
            </a:r>
            <a:endParaRPr b="0" lang="en-US" sz="48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63" name=""/>
          <p:cNvSpPr/>
          <p:nvPr/>
        </p:nvSpPr>
        <p:spPr>
          <a:xfrm>
            <a:off x="7219800" y="221616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939960" indent="-495360">
              <a:lnSpc>
                <a:spcPct val="100000"/>
              </a:lnSpc>
              <a:spcBef>
                <a:spcPts val="33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2922"/>
                </a:solidFill>
                <a:latin typeface="Copperplate"/>
                <a:ea typeface="Copperplate"/>
              </a:rPr>
              <a:t>what I do</a:t>
            </a:r>
            <a:endParaRPr b="0" lang="en-US" sz="48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3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2922"/>
                </a:solidFill>
                <a:latin typeface="Copperplate"/>
                <a:ea typeface="Copperplate"/>
              </a:rPr>
              <a:t>recovery</a:t>
            </a:r>
            <a:endParaRPr b="0" lang="en-US" sz="48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300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2922"/>
                </a:solidFill>
                <a:latin typeface="Copperplate"/>
                <a:ea typeface="Copperplate"/>
              </a:rPr>
              <a:t>love</a:t>
            </a:r>
            <a:endParaRPr b="0" lang="en-US" sz="48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300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2922"/>
                </a:solidFill>
                <a:latin typeface="Copperplate"/>
                <a:ea typeface="Copperplate"/>
              </a:rPr>
              <a:t>discovery</a:t>
            </a:r>
            <a:endParaRPr b="0" lang="en-US" sz="4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6164280" y="2743200"/>
            <a:ext cx="2895480" cy="3822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20000"/>
              </a:srgbClr>
            </a:outerShdw>
          </a:effectLst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58360" y="190080"/>
            <a:ext cx="1082052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digital storytelling elements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02680" y="2997000"/>
            <a:ext cx="5270760" cy="659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939960" indent="-49536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point of view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dramatic question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emotional conten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voice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oundtrack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pacing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939960" indent="-495360"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economy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0"/>
          <a:srcRect l="174" t="9355" r="0" b="9502"/>
          <a:stretch/>
        </p:blipFill>
        <p:spPr>
          <a:xfrm>
            <a:off x="9574200" y="4444920"/>
            <a:ext cx="3070080" cy="4102200"/>
          </a:xfrm>
          <a:prstGeom prst="rect">
            <a:avLst/>
          </a:prstGeom>
          <a:ln w="177840">
            <a:solidFill>
              <a:srgbClr val="e6e7e5"/>
            </a:solidFill>
            <a:miter/>
          </a:ln>
          <a:effectLst>
            <a:outerShdw dist="190440" dir="5400000" blurRad="0" rotWithShape="0">
              <a:srgbClr val="000000">
                <a:alpha val="30000"/>
              </a:srgbClr>
            </a:outerShdw>
          </a:effectLst>
        </p:spPr>
      </p:pic>
      <p:sp>
        <p:nvSpPr>
          <p:cNvPr id="468" name=""/>
          <p:cNvSpPr/>
          <p:nvPr/>
        </p:nvSpPr>
        <p:spPr>
          <a:xfrm>
            <a:off x="6498360" y="6052680"/>
            <a:ext cx="2487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b2922"/>
                </a:solidFill>
                <a:latin typeface="Copperplate"/>
                <a:ea typeface="Copperplate"/>
              </a:rPr>
              <a:t>foxtalbot.dmu.ac.uk/.../LrgeImg/openDoor.jpg</a:t>
            </a:r>
            <a:endParaRPr b="0" lang="en-US" sz="9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469" name=""/>
          <p:cNvSpPr/>
          <p:nvPr/>
        </p:nvSpPr>
        <p:spPr>
          <a:xfrm>
            <a:off x="9590040" y="7772400"/>
            <a:ext cx="3035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Copperplate"/>
                <a:ea typeface="Copperplate"/>
                <a:hlinkClick r:id="rId11"/>
              </a:rPr>
              <a:t>www.opendoorvcf.org/.../2684/Open_Door_Door_.jpg</a:t>
            </a:r>
            <a:endParaRPr b="0" lang="en-US" sz="9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34680" y="17784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omponents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34680" y="1955520"/>
            <a:ext cx="11734920" cy="750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prewriting, reading and thinking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38420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use familiar storie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38420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omething that is personally meaningfu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38420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more than just saying the word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38420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more than merely describing the experience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38420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howing NOT telling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writing exercises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90320" indent="-49032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prompt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370160" indent="-490320">
              <a:lnSpc>
                <a:spcPct val="100000"/>
              </a:lnSpc>
              <a:spcBef>
                <a:spcPts val="18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tell the story of a mentor or hero in your life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370160" indent="-490320">
              <a:lnSpc>
                <a:spcPct val="100000"/>
              </a:lnSpc>
              <a:spcBef>
                <a:spcPts val="18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tell about when “it just didn’t work”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370160" indent="-490320">
              <a:lnSpc>
                <a:spcPct val="100000"/>
              </a:lnSpc>
              <a:spcBef>
                <a:spcPts val="18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when you felt really scared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370160" indent="-490320">
              <a:lnSpc>
                <a:spcPct val="100000"/>
              </a:lnSpc>
              <a:spcBef>
                <a:spcPts val="18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tory of a “first” - date, kiss, job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370160" indent="-490320">
              <a:lnSpc>
                <a:spcPct val="100000"/>
              </a:lnSpc>
              <a:spcBef>
                <a:spcPts val="18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most embarrassing moment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0320" indent="-49032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prod memories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0320" indent="-49032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map of childhood neighborhood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steps- </a:t>
            </a:r>
            <a:r>
              <a:rPr b="0" lang="en-US" sz="4800" spc="-1" strike="noStrike">
                <a:solidFill>
                  <a:srgbClr val="2b2922"/>
                </a:solidFill>
                <a:latin typeface="Copperplate Light"/>
              </a:rPr>
              <a:t>pre production</a:t>
            </a:r>
            <a:endParaRPr b="0" lang="en-US" sz="48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tep One: What do I have to say?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tep Two: Artifact Search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tep Three: </a:t>
            </a:r>
            <a:r>
              <a:rPr b="0" lang="en-US" sz="3800" spc="-1" strike="noStrike" u="sng">
                <a:solidFill>
                  <a:srgbClr val="009999"/>
                </a:solidFill>
                <a:uFillTx/>
                <a:latin typeface="Copperplate"/>
                <a:hlinkClick r:id="rId5" action="ppaction://hlinksldjump"/>
              </a:rPr>
              <a:t>Storyboarding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tep Four: Story Circle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tep Five: Revising the Script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91880" y="63000"/>
            <a:ext cx="108205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Storyboard Example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1174680" y="1319040"/>
            <a:ext cx="10642680" cy="8001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